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2623C-FAF6-438B-80CC-9D1943D24D10}" type="datetime">
              <a:rPr b="0" lang="en-AU"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337"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8D554-E587-4A95-A63B-A1386B0E7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380880" y="685800"/>
            <a:ext cx="609624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09471-4347-442C-BBD8-69180863CE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380880" y="685800"/>
            <a:ext cx="609624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 mission of CT:IQ is “</a:t>
            </a:r>
            <a:r>
              <a:rPr b="0" i="1" lang="en-AU" sz="1200" spc="-1" strike="noStrike">
                <a:solidFill>
                  <a:srgbClr val="000000"/>
                </a:solidFill>
                <a:latin typeface="Calibri"/>
              </a:rPr>
              <a:t>to develop and implement recommendations that will improve the impact, quality and efficiency of clinical trials, leading to more rapid, lower cost and higher quality evaluation of healthcare interventions in Australia</a:t>
            </a: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Our aim is to get Australia </a:t>
            </a:r>
            <a:r>
              <a:rPr b="1" i="1" lang="en-AU" sz="1200" spc="-1" strike="noStrike">
                <a:solidFill>
                  <a:srgbClr val="000000"/>
                </a:solidFill>
                <a:latin typeface="Calibri"/>
              </a:rPr>
              <a:t>Thinking Smarter</a:t>
            </a:r>
            <a:r>
              <a:rPr b="0" lang="en-AU" sz="1200" spc="-1" strike="noStrike">
                <a:solidFill>
                  <a:srgbClr val="000000"/>
                </a:solidFill>
                <a:latin typeface="Calibri"/>
              </a:rPr>
              <a:t> about the design and conduct of clinical tria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ve already heard about the role of trials in Australia: in our healthcare system and in our econom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 think we can do more, and we can do better.  We believe this will lead to a more meaningful integration of clinical trials into the Australian health system, resulting in better healthcare and better outcomes for patients, participants and the community as a who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triving for continuous improvement and identifying and supporting best practice is a collective responsi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ogether we will identify challenges that face our trials, and together we will explore, solve and implement solutions that will help to improve the impact and quality of trials, and therefore drive the outcomes of tria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 investigator-led and industry trials sectors, along with Governments, regulators, patients, research funders and trial participants have a shared interest 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Streamlining/fit for purpose clinical trial approval/governance proces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Increasing the efficiency of recruitment, retention and data monito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Building better research partnerships between trial sponsors, groups that conduct trials, and participant groups to enhance feasibility and 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Ensuring the trials are conducted in ways that are sensitive to the needs of all stakeholders and respectful of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Improving the design of studies in order to ensure the results are as reliable as possible, while being conducted efficient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92464-C69B-49F8-9F34-B38A3FCE66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380880" y="685800"/>
            <a:ext cx="609624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Based on established methodolog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Evidence based processes research with published outco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here we can, we will learn from and build on existing wo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Gather evidence on implementation and impac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Publish outco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0C22C-467C-47DF-B02D-469EA3C352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380880" y="685800"/>
            <a:ext cx="609624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Key to the methodology is that CT:IQ will take an evidence-based approach to clinical trial iss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will be the approach and the focus both when considering improvement areas, and when measuring the impact of work d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CTIQ will work openly and cooperatively, seeking out partnerships and collaborators where relevant to topic areas.  Indeed, some projects may well be led by connected grou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CTIQ will take into account that we work in an international context for clinical trials.  International recommendations and requirements will be taken into account.  Where needed, work will be undertaken to contextualise guidance to the Australian set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inally, CTIQ and the Steering Committee will work together to develop consensus statements, recognising that clinical trials can be a complex matter with multiple important perspectiv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CTIQ workstreams will incorporate impact measurement, and results will be publish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mportantly, outcomes will be communicated openly with other agencies sharing this journey, such as CTTI and related bodies in other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43750-DE19-41D3-A743-B3949A876F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380880" y="685800"/>
            <a:ext cx="609624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Project funded for 6 projects over 2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irst 2 will be selected by the initial Executive Committee.  This is largely driven by timeframes, and the need to get star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 remaining 4 projects will be selected from the topics nominated and prioritised by the Steering Committe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During the pilot programme we will work to ensure that there is a distribution of topics across the sector: for example projects in pharma and medical devices, trial design, site matters, participant issues, trial technolog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re are broadly three types of projec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CTTI output contextualised to the Aus environment, and impact measure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mplementation of best practice guidan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De novo projec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 expect topics to inclu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eInformation and eCons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Novel trial design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elehealth</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Govern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Remote monitoring, remote delivery of tri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Best practice patient enga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 fully expect that there will be more topics than the 6 we’re funded for, so our challenge will be to make a success of the Pilot project, with the aim of developing an on-going vehicle for Continuous Improvement in Clinical Trial that can continue to roll on in the following years with pressing questions in due cours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14440-1DC7-41EF-A63E-4B1727B3D6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380880" y="685800"/>
            <a:ext cx="609624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 expect topics to inclu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eInformation and eCons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Novel trial design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elehealth</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Govern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Remote monitoring, remote delivery of tri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Best practice patient enga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 fully expect that there will be more topics than the 6 we’re funded for, so our challenge will be to make a success of the Pilot project, with the aim of developing an on-going vehicle for Continuous Improvement in Clinical Trial that can continue to roll on in the following years with pressing questions in due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08016-A56D-43C0-B051-7E7FFDAC8C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380880" y="685800"/>
            <a:ext cx="609624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 Governance structure – and I’m actually going to start in the centre of this diagra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ounding collaborators have been acting to date as the Executive Committee.  This group will be broadened to include broad representation from across the sector.  This group will have responsibility f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Collaborators who join CTIQ as members will be able to nominate an individual to the Steering Committee.  This group will provide the overview to the programme: nominating topic areas and prioritising th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Once the projects have been selected, project teams will be established for each one – and I’ll talk a bit more about those in a seco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 initiative has the support of an Advisory Board, the membership of which is currently being finalised.  It will have representation from the international groups undertaking similar work, and from the regulatory agencies here.  The Advisory board will provide horizon scanning and feedback.  It wi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1470C-F590-4BC8-A440-ACFF3E3635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380880" y="685800"/>
            <a:ext cx="609624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o, what’s invol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Collaboration members will be able to nominate to the Steering Committee, and take part in the activities outl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ime Commitment is expected to average a day a month over the 2 year period, with active participation to support the progress ofCT:I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Membership fees will be used as matched funding, along with a grant from Bellberry, and matched funding from MTPConnec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ees vary according to the nature of the organisation, and cover the 2 year duration of the pilot.  There is some flexibility on invoice dating during the pilot period, and the best advice really is to contact Rebecca if you would like a specific conversation about your situ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hy would I join now?  To be able to have a voice in selecting the projects for the next 2 years.</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F30D8-23FE-4738-BF11-070243485B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380880" y="685800"/>
            <a:ext cx="609624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ll collaboration membership won’t be for everyone, and if it’s not, then there are still opportunities to get invol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Practically speaking, projects will require between 1 and 3 team leaders, depending on complexity, and up to 20 team members per projec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Each project will have the support of a dedicated CT:IQ Project Manager to support the project team.  Resources will be made available to each project team for activities up to and including prototyp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Project outcomes will be published, so team members will have the opportunity to get involved in paper authoring and publications.</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AB8A2-4107-4759-B83C-E092FA4AE4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18-094 Bb CT-IQ PPT template 9-16 TITLE.png"/>
          <p:cNvPicPr/>
          <p:nvPr/>
        </p:nvPicPr>
        <p:blipFill>
          <a:blip r:embed="rId2"/>
          <a:stretch/>
        </p:blipFill>
        <p:spPr>
          <a:xfrm>
            <a:off x="0" y="0"/>
            <a:ext cx="9140760" cy="5143680"/>
          </a:xfrm>
          <a:prstGeom prst="rect">
            <a:avLst/>
          </a:prstGeom>
          <a:ln w="0">
            <a:noFill/>
          </a:ln>
        </p:spPr>
      </p:pic>
      <p:sp>
        <p:nvSpPr>
          <p:cNvPr id="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1" descr="18-094 Bb CT-IQ PPT template 9-16 HEADER.png"/>
          <p:cNvPicPr/>
          <p:nvPr/>
        </p:nvPicPr>
        <p:blipFill>
          <a:blip r:embed="rId2"/>
          <a:stretch/>
        </p:blipFill>
        <p:spPr>
          <a:xfrm>
            <a:off x="0" y="0"/>
            <a:ext cx="91407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1" descr="18-094 Bb CT-IQ PPT template 9-16 HEADER.png"/>
          <p:cNvPicPr/>
          <p:nvPr/>
        </p:nvPicPr>
        <p:blipFill>
          <a:blip r:embed="rId2"/>
          <a:stretch/>
        </p:blipFill>
        <p:spPr>
          <a:xfrm>
            <a:off x="0" y="0"/>
            <a:ext cx="91407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1" descr="18-094 Bb CT-IQ PPT template 9-16 HEADER.png"/>
          <p:cNvPicPr/>
          <p:nvPr/>
        </p:nvPicPr>
        <p:blipFill>
          <a:blip r:embed="rId2"/>
          <a:stretch/>
        </p:blipFill>
        <p:spPr>
          <a:xfrm>
            <a:off x="0" y="0"/>
            <a:ext cx="91407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 descr="18-094 Bb CT-IQ PPT template 9-16 FOOTER.png"/>
          <p:cNvPicPr/>
          <p:nvPr/>
        </p:nvPicPr>
        <p:blipFill>
          <a:blip r:embed="rId2"/>
          <a:stretch/>
        </p:blipFill>
        <p:spPr>
          <a:xfrm>
            <a:off x="0" y="0"/>
            <a:ext cx="91407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 descr="18-094 Bb CT-IQ PPT template 9-16 FOOTER.png"/>
          <p:cNvPicPr/>
          <p:nvPr/>
        </p:nvPicPr>
        <p:blipFill>
          <a:blip r:embed="rId2"/>
          <a:stretch/>
        </p:blipFill>
        <p:spPr>
          <a:xfrm>
            <a:off x="0" y="0"/>
            <a:ext cx="91407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1" descr="18-094 Bb CT-IQ PPT template 9-16 FOOTER.png"/>
          <p:cNvPicPr/>
          <p:nvPr/>
        </p:nvPicPr>
        <p:blipFill>
          <a:blip r:embed="rId2"/>
          <a:stretch/>
        </p:blipFill>
        <p:spPr>
          <a:xfrm>
            <a:off x="0" y="0"/>
            <a:ext cx="91407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1" descr="18-094 Bb CT-IQ PPT template 9-16 FOOTER.png"/>
          <p:cNvPicPr/>
          <p:nvPr/>
        </p:nvPicPr>
        <p:blipFill>
          <a:blip r:embed="rId2"/>
          <a:stretch/>
        </p:blipFill>
        <p:spPr>
          <a:xfrm>
            <a:off x="0" y="2455920"/>
            <a:ext cx="4776840" cy="268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7.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97.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image" Target="../media/image14.png"/><Relationship Id="rId4" Type="http://schemas.openxmlformats.org/officeDocument/2006/relationships/slideLayout" Target="../slideLayouts/slideLayout9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97.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9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Box 1"/>
          <p:cNvSpPr/>
          <p:nvPr/>
        </p:nvSpPr>
        <p:spPr>
          <a:xfrm>
            <a:off x="6494400" y="4241880"/>
            <a:ext cx="274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ff0000"/>
                </a:solidFill>
                <a:latin typeface="Calibri"/>
              </a:rPr>
              <a:t>info@CTIQ.com.au</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ff0000"/>
                </a:solidFill>
                <a:latin typeface="Calibri"/>
              </a:rPr>
              <a:t>CTIQ.com.au</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479680" y="630360"/>
            <a:ext cx="3960720" cy="1385640"/>
            <a:chOff x="2479680" y="630360"/>
            <a:chExt cx="3960720" cy="1385640"/>
          </a:xfrm>
        </p:grpSpPr>
        <p:grpSp>
          <p:nvGrpSpPr>
            <p:cNvPr id="342" name="Group"/>
            <p:cNvGrpSpPr/>
            <p:nvPr/>
          </p:nvGrpSpPr>
          <p:grpSpPr>
            <a:xfrm>
              <a:off x="5053680" y="630360"/>
              <a:ext cx="1386720" cy="1385640"/>
              <a:chOff x="5053680" y="630360"/>
              <a:chExt cx="1386720" cy="1385640"/>
            </a:xfrm>
          </p:grpSpPr>
          <p:sp>
            <p:nvSpPr>
              <p:cNvPr id="343" name="Circle"/>
              <p:cNvSpPr/>
              <p:nvPr/>
            </p:nvSpPr>
            <p:spPr>
              <a:xfrm>
                <a:off x="5053680" y="630360"/>
                <a:ext cx="1386720" cy="1385640"/>
              </a:xfrm>
              <a:prstGeom prst="ellipse">
                <a:avLst/>
              </a:prstGeom>
              <a:solidFill>
                <a:srgbClr val="d6d5d5"/>
              </a:solidFill>
              <a:ln w="0">
                <a:noFill/>
              </a:ln>
            </p:spPr>
            <p:style>
              <a:lnRef idx="0"/>
              <a:fillRef idx="0"/>
              <a:effectRef idx="0"/>
              <a:fontRef idx="minor"/>
            </p:style>
            <p:txBody>
              <a:bodyPr lIns="71280" rIns="71280" tIns="71280" bIns="71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44" name="CTIQ_bedpatient2.ai" descr="CTIQ_bedpatient2.ai"/>
              <p:cNvPicPr/>
              <p:nvPr/>
            </p:nvPicPr>
            <p:blipFill>
              <a:blip r:embed="rId1"/>
              <a:stretch/>
            </p:blipFill>
            <p:spPr>
              <a:xfrm>
                <a:off x="5127120" y="897480"/>
                <a:ext cx="1240560" cy="750600"/>
              </a:xfrm>
              <a:prstGeom prst="rect">
                <a:avLst/>
              </a:prstGeom>
              <a:ln w="0">
                <a:noFill/>
              </a:ln>
            </p:spPr>
          </p:pic>
        </p:grpSp>
        <p:grpSp>
          <p:nvGrpSpPr>
            <p:cNvPr id="345" name="Group"/>
            <p:cNvGrpSpPr/>
            <p:nvPr/>
          </p:nvGrpSpPr>
          <p:grpSpPr>
            <a:xfrm>
              <a:off x="3765240" y="630360"/>
              <a:ext cx="1386720" cy="1385640"/>
              <a:chOff x="3765240" y="630360"/>
              <a:chExt cx="1386720" cy="1385640"/>
            </a:xfrm>
          </p:grpSpPr>
          <p:sp>
            <p:nvSpPr>
              <p:cNvPr id="346" name="Circle"/>
              <p:cNvSpPr/>
              <p:nvPr/>
            </p:nvSpPr>
            <p:spPr>
              <a:xfrm>
                <a:off x="3765240" y="630360"/>
                <a:ext cx="1386720" cy="1385640"/>
              </a:xfrm>
              <a:prstGeom prst="ellipse">
                <a:avLst/>
              </a:prstGeom>
              <a:solidFill>
                <a:srgbClr val="929292"/>
              </a:solidFill>
              <a:ln w="0">
                <a:noFill/>
              </a:ln>
            </p:spPr>
            <p:style>
              <a:lnRef idx="0"/>
              <a:fillRef idx="0"/>
              <a:effectRef idx="0"/>
              <a:fontRef idx="minor"/>
            </p:style>
            <p:txBody>
              <a:bodyPr lIns="71280" rIns="71280" tIns="71280" bIns="71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47" name="CTIQ_brain.ai" descr="CTIQ_brain.ai"/>
              <p:cNvPicPr/>
              <p:nvPr/>
            </p:nvPicPr>
            <p:blipFill>
              <a:blip r:embed="rId2"/>
              <a:stretch/>
            </p:blipFill>
            <p:spPr>
              <a:xfrm>
                <a:off x="3840120" y="885600"/>
                <a:ext cx="1236960" cy="782640"/>
              </a:xfrm>
              <a:prstGeom prst="rect">
                <a:avLst/>
              </a:prstGeom>
              <a:ln w="0">
                <a:noFill/>
              </a:ln>
            </p:spPr>
          </p:pic>
        </p:grpSp>
        <p:grpSp>
          <p:nvGrpSpPr>
            <p:cNvPr id="348" name="Group"/>
            <p:cNvGrpSpPr/>
            <p:nvPr/>
          </p:nvGrpSpPr>
          <p:grpSpPr>
            <a:xfrm>
              <a:off x="2479680" y="630360"/>
              <a:ext cx="1386720" cy="1385640"/>
              <a:chOff x="2479680" y="630360"/>
              <a:chExt cx="1386720" cy="1385640"/>
            </a:xfrm>
          </p:grpSpPr>
          <p:sp>
            <p:nvSpPr>
              <p:cNvPr id="349" name="Circle"/>
              <p:cNvSpPr/>
              <p:nvPr/>
            </p:nvSpPr>
            <p:spPr>
              <a:xfrm>
                <a:off x="2479680" y="630360"/>
                <a:ext cx="1386720" cy="1385640"/>
              </a:xfrm>
              <a:prstGeom prst="ellipse">
                <a:avLst/>
              </a:prstGeom>
              <a:solidFill>
                <a:srgbClr val="5e5e5e"/>
              </a:solidFill>
              <a:ln w="0">
                <a:noFill/>
              </a:ln>
            </p:spPr>
            <p:style>
              <a:lnRef idx="0"/>
              <a:fillRef idx="0"/>
              <a:effectRef idx="0"/>
              <a:fontRef idx="minor"/>
            </p:style>
            <p:txBody>
              <a:bodyPr lIns="71280" rIns="71280" tIns="71280" bIns="71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50" name="CTIQ_auorange.ai" descr="CTIQ_auorange.ai"/>
              <p:cNvPicPr/>
              <p:nvPr/>
            </p:nvPicPr>
            <p:blipFill>
              <a:blip r:embed="rId3"/>
              <a:stretch/>
            </p:blipFill>
            <p:spPr>
              <a:xfrm>
                <a:off x="2640240" y="807480"/>
                <a:ext cx="1064880" cy="1031400"/>
              </a:xfrm>
              <a:prstGeom prst="rect">
                <a:avLst/>
              </a:prstGeom>
              <a:ln w="0">
                <a:noFill/>
              </a:ln>
            </p:spPr>
          </p:pic>
        </p:grpSp>
      </p:grpSp>
      <p:sp>
        <p:nvSpPr>
          <p:cNvPr id="351" name="“Our mission is to get Australia…"/>
          <p:cNvSpPr/>
          <p:nvPr/>
        </p:nvSpPr>
        <p:spPr>
          <a:xfrm>
            <a:off x="1027080" y="2436480"/>
            <a:ext cx="7627680" cy="1605240"/>
          </a:xfrm>
          <a:prstGeom prst="rect">
            <a:avLst/>
          </a:prstGeom>
          <a:noFill/>
          <a:ln w="0">
            <a:noFill/>
          </a:ln>
        </p:spPr>
        <p:style>
          <a:lnRef idx="0"/>
          <a:fillRef idx="0"/>
          <a:effectRef idx="0"/>
          <a:fontRef idx="minor"/>
        </p:style>
        <p:txBody>
          <a:bodyPr wrap="none" lIns="71280" rIns="71280" tIns="71280" bIns="712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t>
            </a:r>
            <a:r>
              <a:rPr b="0" i="1" lang="en-US" sz="3200" spc="-1" strike="noStrike">
                <a:solidFill>
                  <a:srgbClr val="000000"/>
                </a:solidFill>
                <a:latin typeface="Calibri"/>
              </a:rPr>
              <a:t>Our mission is to get Australia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           </a:t>
            </a:r>
            <a:r>
              <a:rPr b="1" i="1" lang="en-US" sz="3200" spc="-1" strike="noStrike">
                <a:solidFill>
                  <a:srgbClr val="000000"/>
                </a:solidFill>
                <a:latin typeface="Calibri"/>
              </a:rPr>
              <a:t>Thinking Smarter</a:t>
            </a:r>
            <a:r>
              <a:rPr b="0" i="1" lang="en-US" sz="3200" spc="-1" strike="noStrike">
                <a:solidFill>
                  <a:srgbClr val="000000"/>
                </a:solidFill>
                <a:latin typeface="Calibri"/>
              </a:rPr>
              <a:t>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                  </a:t>
            </a:r>
            <a:r>
              <a:rPr b="0" i="1" lang="en-US" sz="3200" spc="-1" strike="noStrike">
                <a:solidFill>
                  <a:srgbClr val="000000"/>
                </a:solidFill>
                <a:latin typeface="Calibri"/>
              </a:rPr>
              <a:t>about the conduct of clinical trials.”</a:t>
            </a:r>
            <a:endParaRPr b="0" lang="en-US" sz="3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CT:IQ WILL…."/>
          <p:cNvSpPr/>
          <p:nvPr/>
        </p:nvSpPr>
        <p:spPr>
          <a:xfrm>
            <a:off x="410400" y="523440"/>
            <a:ext cx="2428560" cy="602280"/>
          </a:xfrm>
          <a:prstGeom prst="rect">
            <a:avLst/>
          </a:prstGeom>
          <a:noFill/>
          <a:ln w="0">
            <a:noFill/>
          </a:ln>
        </p:spPr>
        <p:style>
          <a:lnRef idx="0"/>
          <a:fillRef idx="0"/>
          <a:effectRef idx="0"/>
          <a:fontRef idx="minor"/>
        </p:style>
        <p:txBody>
          <a:bodyPr wrap="none" lIns="26640" rIns="26640" tIns="26640" bIns="26640" anchor="ctr">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a6a6a6"/>
                </a:solidFill>
                <a:latin typeface="Calibri"/>
                <a:ea typeface="Arial"/>
              </a:rPr>
              <a:t>CT:IQ WILL</a:t>
            </a:r>
            <a:r>
              <a:rPr b="1" i="1" lang="en-AU" sz="3600" spc="-1" strike="noStrike">
                <a:solidFill>
                  <a:srgbClr val="a6a6a6"/>
                </a:solidFill>
                <a:latin typeface="Calibri"/>
                <a:ea typeface="Arial"/>
              </a:rPr>
              <a:t>…</a:t>
            </a:r>
            <a:endParaRPr b="0" lang="en-US" sz="3600" spc="-1" strike="noStrike">
              <a:solidFill>
                <a:srgbClr val="000000"/>
              </a:solidFill>
              <a:latin typeface="Calibri"/>
            </a:endParaRPr>
          </a:p>
        </p:txBody>
      </p:sp>
      <p:grpSp>
        <p:nvGrpSpPr>
          <p:cNvPr id="353" name="Group 1"/>
          <p:cNvGrpSpPr/>
          <p:nvPr/>
        </p:nvGrpSpPr>
        <p:grpSpPr>
          <a:xfrm>
            <a:off x="2100240" y="439560"/>
            <a:ext cx="7594560" cy="4032360"/>
            <a:chOff x="2100240" y="439560"/>
            <a:chExt cx="7594560" cy="4032360"/>
          </a:xfrm>
        </p:grpSpPr>
        <p:graphicFrame>
          <p:nvGraphicFramePr>
            <p:cNvPr id="354" name="2D Donut Chart"/>
            <p:cNvGraphicFramePr/>
            <p:nvPr/>
          </p:nvGraphicFramePr>
          <p:xfrm>
            <a:off x="3763080" y="732600"/>
            <a:ext cx="3660480" cy="3660120"/>
          </p:xfrm>
          <a:graphic>
            <a:graphicData uri="http://schemas.openxmlformats.org/presentationml/2006/ole">
              <p:oleObj progId="Excel.Sheet.12" r:id="rId1" spid="">
                <p:embed/>
                <p:pic>
                  <p:nvPicPr>
                    <p:cNvPr id="355" name="2D Donut Chart" descr=""/>
                    <p:cNvPicPr/>
                    <p:nvPr/>
                  </p:nvPicPr>
                  <p:blipFill>
                    <a:blip r:embed="rId2"/>
                    <a:stretch/>
                  </p:blipFill>
                  <p:spPr>
                    <a:xfrm>
                      <a:off x="3763080" y="732600"/>
                      <a:ext cx="3660480" cy="3660120"/>
                    </a:xfrm>
                    <a:prstGeom prst="rect">
                      <a:avLst/>
                    </a:prstGeom>
                    <a:ln w="0">
                      <a:noFill/>
                    </a:ln>
                  </p:spPr>
                </p:pic>
              </p:oleObj>
            </a:graphicData>
          </a:graphic>
        </p:graphicFrame>
        <p:sp>
          <p:nvSpPr>
            <p:cNvPr id="356" name="Maximise efficiency"/>
            <p:cNvSpPr/>
            <p:nvPr/>
          </p:nvSpPr>
          <p:spPr>
            <a:xfrm>
              <a:off x="7996320" y="2290680"/>
              <a:ext cx="1698480" cy="66996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Maximise</a:t>
              </a:r>
              <a:endParaRPr b="0" lang="en-US" sz="1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efficiency</a:t>
              </a:r>
              <a:endParaRPr b="0" lang="en-US" sz="1500" spc="-1" strike="noStrike">
                <a:solidFill>
                  <a:srgbClr val="000000"/>
                </a:solidFill>
                <a:latin typeface="Calibri"/>
              </a:endParaRPr>
            </a:p>
          </p:txBody>
        </p:sp>
        <p:sp>
          <p:nvSpPr>
            <p:cNvPr id="357" name="Create…"/>
            <p:cNvSpPr/>
            <p:nvPr/>
          </p:nvSpPr>
          <p:spPr>
            <a:xfrm>
              <a:off x="7035840" y="796680"/>
              <a:ext cx="1900080" cy="82224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Create </a:t>
              </a:r>
              <a:endParaRPr b="0" lang="en-US" sz="1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consensus</a:t>
              </a:r>
              <a:endParaRPr b="0" lang="en-US" sz="1500" spc="-1" strike="noStrike">
                <a:solidFill>
                  <a:srgbClr val="000000"/>
                </a:solidFill>
                <a:latin typeface="Calibri"/>
              </a:endParaRPr>
            </a:p>
          </p:txBody>
        </p:sp>
        <p:sp>
          <p:nvSpPr>
            <p:cNvPr id="358" name="Communicate…"/>
            <p:cNvSpPr/>
            <p:nvPr/>
          </p:nvSpPr>
          <p:spPr>
            <a:xfrm>
              <a:off x="2100240" y="2300040"/>
              <a:ext cx="1627200" cy="57600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Communicate</a:t>
              </a:r>
              <a:endParaRPr b="0" lang="en-US" sz="1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broadly</a:t>
              </a:r>
              <a:endParaRPr b="0" lang="en-US" sz="1500" spc="-1" strike="noStrike">
                <a:solidFill>
                  <a:srgbClr val="000000"/>
                </a:solidFill>
                <a:latin typeface="Calibri"/>
              </a:endParaRPr>
            </a:p>
          </p:txBody>
        </p:sp>
        <p:sp>
          <p:nvSpPr>
            <p:cNvPr id="359" name="Measure…"/>
            <p:cNvSpPr/>
            <p:nvPr/>
          </p:nvSpPr>
          <p:spPr>
            <a:xfrm>
              <a:off x="3330360" y="825120"/>
              <a:ext cx="1800000" cy="64584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Measure</a:t>
              </a:r>
              <a:endParaRPr b="0" lang="en-US" sz="1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Impact</a:t>
              </a:r>
              <a:endParaRPr b="0" lang="en-US" sz="1500" spc="-1" strike="noStrike">
                <a:solidFill>
                  <a:srgbClr val="000000"/>
                </a:solidFill>
                <a:latin typeface="Calibri"/>
              </a:endParaRPr>
            </a:p>
          </p:txBody>
        </p:sp>
        <p:sp>
          <p:nvSpPr>
            <p:cNvPr id="360" name="Follow Evidence-Based approach"/>
            <p:cNvSpPr/>
            <p:nvPr/>
          </p:nvSpPr>
          <p:spPr>
            <a:xfrm>
              <a:off x="2663640" y="3646440"/>
              <a:ext cx="2157480" cy="66996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Follow </a:t>
              </a:r>
              <a:endParaRPr b="0" lang="en-US" sz="1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Evidence-Based </a:t>
              </a:r>
              <a:endParaRPr b="0" lang="en-US" sz="1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approach</a:t>
              </a:r>
              <a:endParaRPr b="0" lang="en-US" sz="1500" spc="-1" strike="noStrike">
                <a:solidFill>
                  <a:srgbClr val="000000"/>
                </a:solidFill>
                <a:latin typeface="Calibri"/>
              </a:endParaRPr>
            </a:p>
          </p:txBody>
        </p:sp>
        <p:sp>
          <p:nvSpPr>
            <p:cNvPr id="361" name="Advocate for all stakeholders"/>
            <p:cNvSpPr/>
            <p:nvPr/>
          </p:nvSpPr>
          <p:spPr>
            <a:xfrm>
              <a:off x="7280280" y="3834000"/>
              <a:ext cx="2077920" cy="63792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500" spc="-1" strike="noStrike">
                  <a:solidFill>
                    <a:srgbClr val="000000"/>
                  </a:solidFill>
                  <a:latin typeface="Calibri"/>
                </a:rPr>
                <a:t>Consider</a:t>
              </a:r>
              <a:endParaRPr b="0" lang="en-US" sz="1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all stakeholders</a:t>
              </a:r>
              <a:endParaRPr b="0" lang="en-US" sz="1500" spc="-1" strike="noStrike">
                <a:solidFill>
                  <a:srgbClr val="000000"/>
                </a:solidFill>
                <a:latin typeface="Calibri"/>
              </a:endParaRPr>
            </a:p>
          </p:txBody>
        </p:sp>
        <p:sp>
          <p:nvSpPr>
            <p:cNvPr id="362" name="Rectangle"/>
            <p:cNvSpPr/>
            <p:nvPr/>
          </p:nvSpPr>
          <p:spPr>
            <a:xfrm>
              <a:off x="5154480" y="2404800"/>
              <a:ext cx="44280" cy="183960"/>
            </a:xfrm>
            <a:prstGeom prst="rect">
              <a:avLst/>
            </a:prstGeom>
            <a:noFill/>
            <a:ln w="0">
              <a:noFill/>
            </a:ln>
          </p:spPr>
          <p:style>
            <a:lnRef idx="0"/>
            <a:fillRef idx="0"/>
            <a:effectRef idx="0"/>
            <a:fontRef idx="minor"/>
          </p:style>
          <p:txBody>
            <a:bodyPr lIns="26640" rIns="26640" tIns="26640" bIns="26640" anchor="ctr">
              <a:noAutofit/>
            </a:bodyPr>
            <a:p>
              <a:pPr>
                <a:lnSpc>
                  <a:spcPct val="100000"/>
                </a:lnSpc>
                <a:spcBef>
                  <a:spcPts val="224"/>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800" spc="-1" strike="noStrike">
                <a:solidFill>
                  <a:srgbClr val="000000"/>
                </a:solidFill>
                <a:latin typeface="Calibri"/>
              </a:endParaRPr>
            </a:p>
          </p:txBody>
        </p:sp>
        <p:sp>
          <p:nvSpPr>
            <p:cNvPr id="363" name="Arrow 4"/>
            <p:cNvSpPr/>
            <p:nvPr/>
          </p:nvSpPr>
          <p:spPr>
            <a:xfrm rot="10800000">
              <a:off x="4438080" y="485280"/>
              <a:ext cx="563400" cy="574560"/>
            </a:xfrm>
            <a:custGeom>
              <a:avLst/>
              <a:gdLst/>
              <a:ahLst/>
              <a:rect l="l" t="t" r="r" b="b"/>
              <a:pathLst>
                <a:path w="21600" h="21600">
                  <a:moveTo>
                    <a:pt x="12228" y="0"/>
                  </a:moveTo>
                  <a:cubicBezTo>
                    <a:pt x="7061" y="0"/>
                    <a:pt x="2855" y="4119"/>
                    <a:pt x="2855" y="9181"/>
                  </a:cubicBezTo>
                  <a:cubicBezTo>
                    <a:pt x="2855" y="9198"/>
                    <a:pt x="2856" y="9214"/>
                    <a:pt x="2857" y="9231"/>
                  </a:cubicBezTo>
                  <a:lnTo>
                    <a:pt x="2855" y="14548"/>
                  </a:lnTo>
                  <a:lnTo>
                    <a:pt x="0" y="14548"/>
                  </a:lnTo>
                  <a:lnTo>
                    <a:pt x="5299" y="21597"/>
                  </a:lnTo>
                  <a:lnTo>
                    <a:pt x="10598" y="14548"/>
                  </a:lnTo>
                  <a:lnTo>
                    <a:pt x="7729" y="14548"/>
                  </a:lnTo>
                  <a:lnTo>
                    <a:pt x="7729" y="9231"/>
                  </a:lnTo>
                  <a:lnTo>
                    <a:pt x="7729" y="9210"/>
                  </a:lnTo>
                  <a:cubicBezTo>
                    <a:pt x="7729" y="9201"/>
                    <a:pt x="7729" y="9191"/>
                    <a:pt x="7729" y="9181"/>
                  </a:cubicBezTo>
                  <a:cubicBezTo>
                    <a:pt x="7729" y="6751"/>
                    <a:pt x="9747" y="4773"/>
                    <a:pt x="12228" y="4773"/>
                  </a:cubicBezTo>
                  <a:lnTo>
                    <a:pt x="12230" y="4773"/>
                  </a:lnTo>
                  <a:cubicBezTo>
                    <a:pt x="14711" y="4774"/>
                    <a:pt x="16728" y="6751"/>
                    <a:pt x="16728" y="9181"/>
                  </a:cubicBezTo>
                  <a:cubicBezTo>
                    <a:pt x="16728" y="9191"/>
                    <a:pt x="16714" y="21600"/>
                    <a:pt x="16714" y="21600"/>
                  </a:cubicBezTo>
                  <a:lnTo>
                    <a:pt x="21591" y="21600"/>
                  </a:lnTo>
                  <a:cubicBezTo>
                    <a:pt x="21591" y="21600"/>
                    <a:pt x="21600" y="9202"/>
                    <a:pt x="21600" y="9181"/>
                  </a:cubicBezTo>
                  <a:cubicBezTo>
                    <a:pt x="21600" y="4144"/>
                    <a:pt x="17438" y="41"/>
                    <a:pt x="12306" y="0"/>
                  </a:cubicBezTo>
                  <a:lnTo>
                    <a:pt x="12230" y="0"/>
                  </a:lnTo>
                  <a:cubicBezTo>
                    <a:pt x="12230" y="0"/>
                    <a:pt x="12229" y="0"/>
                    <a:pt x="12228" y="0"/>
                  </a:cubicBezTo>
                  <a:close/>
                </a:path>
              </a:pathLst>
            </a:custGeom>
            <a:solidFill>
              <a:srgbClr val="929292"/>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364" name="Scale"/>
            <p:cNvSpPr/>
            <p:nvPr/>
          </p:nvSpPr>
          <p:spPr>
            <a:xfrm>
              <a:off x="4467240" y="1060200"/>
              <a:ext cx="475920" cy="476280"/>
            </a:xfrm>
            <a:custGeom>
              <a:avLst/>
              <a:gdLst/>
              <a:ahLst/>
              <a:rect l="l" t="t" r="r" b="b"/>
              <a:pathLst>
                <a:path w="21600" h="21600">
                  <a:moveTo>
                    <a:pt x="204" y="0"/>
                  </a:moveTo>
                  <a:cubicBezTo>
                    <a:pt x="91" y="0"/>
                    <a:pt x="0" y="92"/>
                    <a:pt x="0" y="206"/>
                  </a:cubicBezTo>
                  <a:lnTo>
                    <a:pt x="0" y="1070"/>
                  </a:lnTo>
                  <a:cubicBezTo>
                    <a:pt x="0" y="1183"/>
                    <a:pt x="91" y="1274"/>
                    <a:pt x="204" y="1274"/>
                  </a:cubicBezTo>
                  <a:cubicBezTo>
                    <a:pt x="598" y="1274"/>
                    <a:pt x="3707" y="1274"/>
                    <a:pt x="7432" y="1274"/>
                  </a:cubicBezTo>
                  <a:lnTo>
                    <a:pt x="7432" y="3181"/>
                  </a:lnTo>
                  <a:lnTo>
                    <a:pt x="8705" y="3181"/>
                  </a:lnTo>
                  <a:lnTo>
                    <a:pt x="8705" y="1274"/>
                  </a:lnTo>
                  <a:cubicBezTo>
                    <a:pt x="10081" y="1274"/>
                    <a:pt x="11513" y="1274"/>
                    <a:pt x="12895" y="1274"/>
                  </a:cubicBezTo>
                  <a:lnTo>
                    <a:pt x="12895" y="3181"/>
                  </a:lnTo>
                  <a:lnTo>
                    <a:pt x="14168" y="3181"/>
                  </a:lnTo>
                  <a:lnTo>
                    <a:pt x="14168" y="1274"/>
                  </a:lnTo>
                  <a:cubicBezTo>
                    <a:pt x="17941" y="1274"/>
                    <a:pt x="21077" y="1274"/>
                    <a:pt x="21396" y="1274"/>
                  </a:cubicBezTo>
                  <a:cubicBezTo>
                    <a:pt x="21509" y="1274"/>
                    <a:pt x="21600" y="1183"/>
                    <a:pt x="21600" y="1070"/>
                  </a:cubicBezTo>
                  <a:lnTo>
                    <a:pt x="21600" y="206"/>
                  </a:lnTo>
                  <a:cubicBezTo>
                    <a:pt x="21600" y="92"/>
                    <a:pt x="21508" y="0"/>
                    <a:pt x="21389" y="0"/>
                  </a:cubicBezTo>
                  <a:lnTo>
                    <a:pt x="204" y="0"/>
                  </a:lnTo>
                  <a:close/>
                  <a:moveTo>
                    <a:pt x="4922" y="3554"/>
                  </a:moveTo>
                  <a:cubicBezTo>
                    <a:pt x="4630" y="3554"/>
                    <a:pt x="4382" y="3763"/>
                    <a:pt x="4333" y="4055"/>
                  </a:cubicBezTo>
                  <a:lnTo>
                    <a:pt x="2061" y="17923"/>
                  </a:lnTo>
                  <a:cubicBezTo>
                    <a:pt x="2013" y="18215"/>
                    <a:pt x="1868" y="18478"/>
                    <a:pt x="1646" y="18667"/>
                  </a:cubicBezTo>
                  <a:lnTo>
                    <a:pt x="204" y="19916"/>
                  </a:lnTo>
                  <a:cubicBezTo>
                    <a:pt x="80" y="20024"/>
                    <a:pt x="10" y="20174"/>
                    <a:pt x="10" y="20336"/>
                  </a:cubicBezTo>
                  <a:lnTo>
                    <a:pt x="10" y="21600"/>
                  </a:lnTo>
                  <a:lnTo>
                    <a:pt x="21600" y="21600"/>
                  </a:lnTo>
                  <a:lnTo>
                    <a:pt x="21600" y="20341"/>
                  </a:lnTo>
                  <a:cubicBezTo>
                    <a:pt x="21600" y="20179"/>
                    <a:pt x="21530" y="20024"/>
                    <a:pt x="21406" y="19916"/>
                  </a:cubicBezTo>
                  <a:lnTo>
                    <a:pt x="19966" y="18667"/>
                  </a:lnTo>
                  <a:cubicBezTo>
                    <a:pt x="19744" y="18473"/>
                    <a:pt x="19592" y="18209"/>
                    <a:pt x="19549" y="17923"/>
                  </a:cubicBezTo>
                  <a:lnTo>
                    <a:pt x="17277" y="4055"/>
                  </a:lnTo>
                  <a:cubicBezTo>
                    <a:pt x="17228" y="3769"/>
                    <a:pt x="16980" y="3554"/>
                    <a:pt x="16688" y="3554"/>
                  </a:cubicBezTo>
                  <a:lnTo>
                    <a:pt x="4922" y="3554"/>
                  </a:lnTo>
                  <a:close/>
                  <a:moveTo>
                    <a:pt x="10805" y="5692"/>
                  </a:moveTo>
                  <a:cubicBezTo>
                    <a:pt x="14000" y="5692"/>
                    <a:pt x="16585" y="8278"/>
                    <a:pt x="16585" y="11475"/>
                  </a:cubicBezTo>
                  <a:cubicBezTo>
                    <a:pt x="16585" y="14666"/>
                    <a:pt x="13995" y="17258"/>
                    <a:pt x="10805" y="17258"/>
                  </a:cubicBezTo>
                  <a:cubicBezTo>
                    <a:pt x="7615" y="17258"/>
                    <a:pt x="5025" y="14672"/>
                    <a:pt x="5025" y="11475"/>
                  </a:cubicBezTo>
                  <a:cubicBezTo>
                    <a:pt x="5025" y="8284"/>
                    <a:pt x="7610" y="5692"/>
                    <a:pt x="10805" y="5692"/>
                  </a:cubicBezTo>
                  <a:close/>
                  <a:moveTo>
                    <a:pt x="14357" y="7712"/>
                  </a:moveTo>
                  <a:lnTo>
                    <a:pt x="11168" y="10562"/>
                  </a:lnTo>
                  <a:cubicBezTo>
                    <a:pt x="10817" y="10422"/>
                    <a:pt x="10395" y="10492"/>
                    <a:pt x="10108" y="10778"/>
                  </a:cubicBezTo>
                  <a:cubicBezTo>
                    <a:pt x="9725" y="11161"/>
                    <a:pt x="9725" y="11783"/>
                    <a:pt x="10108" y="12167"/>
                  </a:cubicBezTo>
                  <a:cubicBezTo>
                    <a:pt x="10492" y="12550"/>
                    <a:pt x="11113" y="12550"/>
                    <a:pt x="11497" y="12167"/>
                  </a:cubicBezTo>
                  <a:cubicBezTo>
                    <a:pt x="11783" y="11881"/>
                    <a:pt x="11853" y="11464"/>
                    <a:pt x="11713" y="11107"/>
                  </a:cubicBezTo>
                  <a:lnTo>
                    <a:pt x="14561" y="7916"/>
                  </a:lnTo>
                  <a:lnTo>
                    <a:pt x="14357" y="7712"/>
                  </a:lnTo>
                  <a:close/>
                </a:path>
              </a:pathLst>
            </a:custGeom>
            <a:solidFill>
              <a:srgbClr val="000000"/>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grpSp>
          <p:nvGrpSpPr>
            <p:cNvPr id="365" name="Group"/>
            <p:cNvGrpSpPr/>
            <p:nvPr/>
          </p:nvGrpSpPr>
          <p:grpSpPr>
            <a:xfrm>
              <a:off x="6791400" y="2173680"/>
              <a:ext cx="990360" cy="645120"/>
              <a:chOff x="6791400" y="2173680"/>
              <a:chExt cx="990360" cy="645120"/>
            </a:xfrm>
          </p:grpSpPr>
          <p:sp>
            <p:nvSpPr>
              <p:cNvPr id="366" name="Stopwatch"/>
              <p:cNvSpPr/>
              <p:nvPr/>
            </p:nvSpPr>
            <p:spPr>
              <a:xfrm>
                <a:off x="6791400" y="2173680"/>
                <a:ext cx="561960" cy="645120"/>
              </a:xfrm>
              <a:custGeom>
                <a:avLst/>
                <a:gdLst/>
                <a:ahLst/>
                <a:rect l="l" t="t" r="r" b="b"/>
                <a:pathLst>
                  <a:path w="21600" h="21600">
                    <a:moveTo>
                      <a:pt x="8963" y="0"/>
                    </a:moveTo>
                    <a:cubicBezTo>
                      <a:pt x="8820" y="0"/>
                      <a:pt x="8701" y="104"/>
                      <a:pt x="8701" y="228"/>
                    </a:cubicBezTo>
                    <a:lnTo>
                      <a:pt x="8701" y="1247"/>
                    </a:lnTo>
                    <a:cubicBezTo>
                      <a:pt x="8701" y="1372"/>
                      <a:pt x="8820" y="1475"/>
                      <a:pt x="8963" y="1475"/>
                    </a:cubicBezTo>
                    <a:lnTo>
                      <a:pt x="10018" y="1475"/>
                    </a:lnTo>
                    <a:lnTo>
                      <a:pt x="10018" y="2831"/>
                    </a:lnTo>
                    <a:cubicBezTo>
                      <a:pt x="4413" y="3182"/>
                      <a:pt x="0" y="7243"/>
                      <a:pt x="0" y="12202"/>
                    </a:cubicBezTo>
                    <a:cubicBezTo>
                      <a:pt x="0" y="17392"/>
                      <a:pt x="4835" y="21600"/>
                      <a:pt x="10800" y="21600"/>
                    </a:cubicBezTo>
                    <a:cubicBezTo>
                      <a:pt x="16765" y="21600"/>
                      <a:pt x="21600" y="17392"/>
                      <a:pt x="21600" y="12202"/>
                    </a:cubicBezTo>
                    <a:cubicBezTo>
                      <a:pt x="21600" y="9658"/>
                      <a:pt x="20440" y="7352"/>
                      <a:pt x="18553" y="5661"/>
                    </a:cubicBezTo>
                    <a:cubicBezTo>
                      <a:pt x="18627" y="5629"/>
                      <a:pt x="18695" y="5586"/>
                      <a:pt x="18751" y="5521"/>
                    </a:cubicBezTo>
                    <a:lnTo>
                      <a:pt x="19168" y="5018"/>
                    </a:lnTo>
                    <a:cubicBezTo>
                      <a:pt x="19335" y="4813"/>
                      <a:pt x="19285" y="4526"/>
                      <a:pt x="19049" y="4380"/>
                    </a:cubicBezTo>
                    <a:lnTo>
                      <a:pt x="17267" y="3268"/>
                    </a:lnTo>
                    <a:cubicBezTo>
                      <a:pt x="17031" y="3122"/>
                      <a:pt x="16703" y="3165"/>
                      <a:pt x="16536" y="3371"/>
                    </a:cubicBezTo>
                    <a:lnTo>
                      <a:pt x="16119" y="3874"/>
                    </a:lnTo>
                    <a:cubicBezTo>
                      <a:pt x="16088" y="3912"/>
                      <a:pt x="16069" y="3949"/>
                      <a:pt x="16051" y="3992"/>
                    </a:cubicBezTo>
                    <a:cubicBezTo>
                      <a:pt x="14710" y="3344"/>
                      <a:pt x="13201" y="2933"/>
                      <a:pt x="11588" y="2831"/>
                    </a:cubicBezTo>
                    <a:lnTo>
                      <a:pt x="11588" y="1475"/>
                    </a:lnTo>
                    <a:lnTo>
                      <a:pt x="12643" y="1475"/>
                    </a:lnTo>
                    <a:cubicBezTo>
                      <a:pt x="12785" y="1475"/>
                      <a:pt x="12905" y="1372"/>
                      <a:pt x="12905" y="1247"/>
                    </a:cubicBezTo>
                    <a:lnTo>
                      <a:pt x="12905" y="228"/>
                    </a:lnTo>
                    <a:cubicBezTo>
                      <a:pt x="12905" y="104"/>
                      <a:pt x="12785" y="0"/>
                      <a:pt x="12643" y="0"/>
                    </a:cubicBezTo>
                    <a:lnTo>
                      <a:pt x="8963" y="0"/>
                    </a:lnTo>
                    <a:close/>
                    <a:moveTo>
                      <a:pt x="10800" y="5666"/>
                    </a:moveTo>
                    <a:cubicBezTo>
                      <a:pt x="11234" y="5666"/>
                      <a:pt x="11587" y="5973"/>
                      <a:pt x="11588" y="6352"/>
                    </a:cubicBezTo>
                    <a:lnTo>
                      <a:pt x="11588" y="12202"/>
                    </a:lnTo>
                    <a:cubicBezTo>
                      <a:pt x="11588" y="12580"/>
                      <a:pt x="11234" y="12887"/>
                      <a:pt x="10800" y="12887"/>
                    </a:cubicBezTo>
                    <a:cubicBezTo>
                      <a:pt x="10366" y="12887"/>
                      <a:pt x="10013" y="12580"/>
                      <a:pt x="10013" y="12202"/>
                    </a:cubicBezTo>
                    <a:lnTo>
                      <a:pt x="10013" y="6352"/>
                    </a:lnTo>
                    <a:cubicBezTo>
                      <a:pt x="10013" y="5973"/>
                      <a:pt x="10366" y="5666"/>
                      <a:pt x="10800" y="5666"/>
                    </a:cubicBezTo>
                    <a:close/>
                  </a:path>
                </a:pathLst>
              </a:custGeom>
              <a:solidFill>
                <a:srgbClr val="929292"/>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367" name="Gear"/>
              <p:cNvSpPr/>
              <p:nvPr/>
            </p:nvSpPr>
            <p:spPr>
              <a:xfrm>
                <a:off x="7246800" y="2268720"/>
                <a:ext cx="534960" cy="536040"/>
              </a:xfrm>
              <a:custGeom>
                <a:avLst/>
                <a:gdLst/>
                <a:ahLst/>
                <a:rect l="l" t="t" r="r" b="b"/>
                <a:pathLst>
                  <a:path w="21532" h="21555">
                    <a:moveTo>
                      <a:pt x="12837" y="2"/>
                    </a:moveTo>
                    <a:cubicBezTo>
                      <a:pt x="12731" y="-11"/>
                      <a:pt x="12661" y="38"/>
                      <a:pt x="12588" y="172"/>
                    </a:cubicBezTo>
                    <a:cubicBezTo>
                      <a:pt x="12292" y="721"/>
                      <a:pt x="11969" y="1258"/>
                      <a:pt x="11661" y="1801"/>
                    </a:cubicBezTo>
                    <a:cubicBezTo>
                      <a:pt x="11547" y="2001"/>
                      <a:pt x="11418" y="2099"/>
                      <a:pt x="11153" y="2073"/>
                    </a:cubicBezTo>
                    <a:cubicBezTo>
                      <a:pt x="10691" y="2028"/>
                      <a:pt x="10220" y="2032"/>
                      <a:pt x="9759" y="2112"/>
                    </a:cubicBezTo>
                    <a:cubicBezTo>
                      <a:pt x="9550" y="2148"/>
                      <a:pt x="9432" y="2095"/>
                      <a:pt x="9318" y="1917"/>
                    </a:cubicBezTo>
                    <a:cubicBezTo>
                      <a:pt x="8969" y="1370"/>
                      <a:pt x="8594" y="841"/>
                      <a:pt x="8243" y="295"/>
                    </a:cubicBezTo>
                    <a:cubicBezTo>
                      <a:pt x="8145" y="142"/>
                      <a:pt x="8068" y="122"/>
                      <a:pt x="7905" y="198"/>
                    </a:cubicBezTo>
                    <a:cubicBezTo>
                      <a:pt x="6845" y="688"/>
                      <a:pt x="5781" y="1174"/>
                      <a:pt x="4712" y="1644"/>
                    </a:cubicBezTo>
                    <a:cubicBezTo>
                      <a:pt x="4517" y="1730"/>
                      <a:pt x="4517" y="1820"/>
                      <a:pt x="4567" y="1996"/>
                    </a:cubicBezTo>
                    <a:cubicBezTo>
                      <a:pt x="4742" y="2608"/>
                      <a:pt x="4890" y="3227"/>
                      <a:pt x="5065" y="3839"/>
                    </a:cubicBezTo>
                    <a:cubicBezTo>
                      <a:pt x="5122" y="4038"/>
                      <a:pt x="5098" y="4170"/>
                      <a:pt x="4932" y="4306"/>
                    </a:cubicBezTo>
                    <a:cubicBezTo>
                      <a:pt x="4561" y="4610"/>
                      <a:pt x="4227" y="4959"/>
                      <a:pt x="3950" y="5348"/>
                    </a:cubicBezTo>
                    <a:cubicBezTo>
                      <a:pt x="3802" y="5555"/>
                      <a:pt x="3648" y="5573"/>
                      <a:pt x="3439" y="5530"/>
                    </a:cubicBezTo>
                    <a:cubicBezTo>
                      <a:pt x="2827" y="5405"/>
                      <a:pt x="2213" y="5295"/>
                      <a:pt x="1605" y="5156"/>
                    </a:cubicBezTo>
                    <a:cubicBezTo>
                      <a:pt x="1409" y="5111"/>
                      <a:pt x="1325" y="5153"/>
                      <a:pt x="1257" y="5338"/>
                    </a:cubicBezTo>
                    <a:cubicBezTo>
                      <a:pt x="856" y="6423"/>
                      <a:pt x="449" y="7506"/>
                      <a:pt x="35" y="8586"/>
                    </a:cubicBezTo>
                    <a:cubicBezTo>
                      <a:pt x="-34" y="8767"/>
                      <a:pt x="-6" y="8857"/>
                      <a:pt x="173" y="8954"/>
                    </a:cubicBezTo>
                    <a:cubicBezTo>
                      <a:pt x="722" y="9251"/>
                      <a:pt x="1256" y="9574"/>
                      <a:pt x="1798" y="9882"/>
                    </a:cubicBezTo>
                    <a:cubicBezTo>
                      <a:pt x="2001" y="9997"/>
                      <a:pt x="2093" y="10127"/>
                      <a:pt x="2064" y="10392"/>
                    </a:cubicBezTo>
                    <a:cubicBezTo>
                      <a:pt x="2014" y="10855"/>
                      <a:pt x="2039" y="11326"/>
                      <a:pt x="2116" y="11788"/>
                    </a:cubicBezTo>
                    <a:cubicBezTo>
                      <a:pt x="2151" y="11998"/>
                      <a:pt x="2089" y="12115"/>
                      <a:pt x="1913" y="12228"/>
                    </a:cubicBezTo>
                    <a:cubicBezTo>
                      <a:pt x="1367" y="12578"/>
                      <a:pt x="837" y="12953"/>
                      <a:pt x="291" y="13303"/>
                    </a:cubicBezTo>
                    <a:cubicBezTo>
                      <a:pt x="136" y="13403"/>
                      <a:pt x="124" y="13482"/>
                      <a:pt x="199" y="13643"/>
                    </a:cubicBezTo>
                    <a:cubicBezTo>
                      <a:pt x="688" y="14705"/>
                      <a:pt x="1172" y="15768"/>
                      <a:pt x="1642" y="16837"/>
                    </a:cubicBezTo>
                    <a:cubicBezTo>
                      <a:pt x="1728" y="17034"/>
                      <a:pt x="1818" y="17032"/>
                      <a:pt x="1994" y="16982"/>
                    </a:cubicBezTo>
                    <a:cubicBezTo>
                      <a:pt x="2605" y="16807"/>
                      <a:pt x="3223" y="16651"/>
                      <a:pt x="3839" y="16489"/>
                    </a:cubicBezTo>
                    <a:cubicBezTo>
                      <a:pt x="3930" y="16465"/>
                      <a:pt x="4023" y="16451"/>
                      <a:pt x="4118" y="16432"/>
                    </a:cubicBezTo>
                    <a:cubicBezTo>
                      <a:pt x="4164" y="16485"/>
                      <a:pt x="4202" y="16532"/>
                      <a:pt x="4241" y="16576"/>
                    </a:cubicBezTo>
                    <a:cubicBezTo>
                      <a:pt x="4568" y="16944"/>
                      <a:pt x="4922" y="17287"/>
                      <a:pt x="5319" y="17573"/>
                    </a:cubicBezTo>
                    <a:cubicBezTo>
                      <a:pt x="5534" y="17728"/>
                      <a:pt x="5572" y="17885"/>
                      <a:pt x="5524" y="18114"/>
                    </a:cubicBezTo>
                    <a:cubicBezTo>
                      <a:pt x="5398" y="18725"/>
                      <a:pt x="5287" y="19339"/>
                      <a:pt x="5149" y="19947"/>
                    </a:cubicBezTo>
                    <a:cubicBezTo>
                      <a:pt x="5105" y="20142"/>
                      <a:pt x="5145" y="20229"/>
                      <a:pt x="5331" y="20297"/>
                    </a:cubicBezTo>
                    <a:cubicBezTo>
                      <a:pt x="6415" y="20698"/>
                      <a:pt x="7497" y="21106"/>
                      <a:pt x="8576" y="21520"/>
                    </a:cubicBezTo>
                    <a:cubicBezTo>
                      <a:pt x="8757" y="21589"/>
                      <a:pt x="8847" y="21563"/>
                      <a:pt x="8944" y="21383"/>
                    </a:cubicBezTo>
                    <a:cubicBezTo>
                      <a:pt x="9241" y="20834"/>
                      <a:pt x="9562" y="20299"/>
                      <a:pt x="9871" y="19757"/>
                    </a:cubicBezTo>
                    <a:cubicBezTo>
                      <a:pt x="9985" y="19558"/>
                      <a:pt x="10110" y="19452"/>
                      <a:pt x="10378" y="19481"/>
                    </a:cubicBezTo>
                    <a:cubicBezTo>
                      <a:pt x="10828" y="19528"/>
                      <a:pt x="11291" y="19534"/>
                      <a:pt x="11737" y="19445"/>
                    </a:cubicBezTo>
                    <a:cubicBezTo>
                      <a:pt x="12009" y="19391"/>
                      <a:pt x="12126" y="19505"/>
                      <a:pt x="12252" y="19698"/>
                    </a:cubicBezTo>
                    <a:cubicBezTo>
                      <a:pt x="12593" y="20221"/>
                      <a:pt x="12952" y="20733"/>
                      <a:pt x="13290" y="21259"/>
                    </a:cubicBezTo>
                    <a:cubicBezTo>
                      <a:pt x="13387" y="21411"/>
                      <a:pt x="13463" y="21432"/>
                      <a:pt x="13628" y="21356"/>
                    </a:cubicBezTo>
                    <a:cubicBezTo>
                      <a:pt x="14687" y="20866"/>
                      <a:pt x="15750" y="20382"/>
                      <a:pt x="16819" y="19912"/>
                    </a:cubicBezTo>
                    <a:cubicBezTo>
                      <a:pt x="17012" y="19827"/>
                      <a:pt x="17018" y="19738"/>
                      <a:pt x="16967" y="19560"/>
                    </a:cubicBezTo>
                    <a:cubicBezTo>
                      <a:pt x="16791" y="18948"/>
                      <a:pt x="16644" y="18329"/>
                      <a:pt x="16469" y="17716"/>
                    </a:cubicBezTo>
                    <a:cubicBezTo>
                      <a:pt x="16412" y="17519"/>
                      <a:pt x="16433" y="17386"/>
                      <a:pt x="16600" y="17250"/>
                    </a:cubicBezTo>
                    <a:cubicBezTo>
                      <a:pt x="16971" y="16946"/>
                      <a:pt x="17305" y="16598"/>
                      <a:pt x="17584" y="16209"/>
                    </a:cubicBezTo>
                    <a:cubicBezTo>
                      <a:pt x="17730" y="16006"/>
                      <a:pt x="17880" y="15980"/>
                      <a:pt x="18092" y="16024"/>
                    </a:cubicBezTo>
                    <a:cubicBezTo>
                      <a:pt x="18703" y="16151"/>
                      <a:pt x="19318" y="16260"/>
                      <a:pt x="19926" y="16398"/>
                    </a:cubicBezTo>
                    <a:cubicBezTo>
                      <a:pt x="20121" y="16442"/>
                      <a:pt x="20207" y="16404"/>
                      <a:pt x="20276" y="16218"/>
                    </a:cubicBezTo>
                    <a:cubicBezTo>
                      <a:pt x="20676" y="15133"/>
                      <a:pt x="21084" y="14050"/>
                      <a:pt x="21497" y="12970"/>
                    </a:cubicBezTo>
                    <a:cubicBezTo>
                      <a:pt x="21566" y="12790"/>
                      <a:pt x="21541" y="12697"/>
                      <a:pt x="21361" y="12600"/>
                    </a:cubicBezTo>
                    <a:cubicBezTo>
                      <a:pt x="20812" y="12303"/>
                      <a:pt x="20278" y="11982"/>
                      <a:pt x="19736" y="11674"/>
                    </a:cubicBezTo>
                    <a:cubicBezTo>
                      <a:pt x="19535" y="11559"/>
                      <a:pt x="19439" y="11431"/>
                      <a:pt x="19468" y="11163"/>
                    </a:cubicBezTo>
                    <a:cubicBezTo>
                      <a:pt x="19519" y="10701"/>
                      <a:pt x="19493" y="10230"/>
                      <a:pt x="19416" y="9768"/>
                    </a:cubicBezTo>
                    <a:cubicBezTo>
                      <a:pt x="19381" y="9559"/>
                      <a:pt x="19443" y="9442"/>
                      <a:pt x="19620" y="9328"/>
                    </a:cubicBezTo>
                    <a:cubicBezTo>
                      <a:pt x="20166" y="8978"/>
                      <a:pt x="20694" y="8603"/>
                      <a:pt x="21240" y="8252"/>
                    </a:cubicBezTo>
                    <a:cubicBezTo>
                      <a:pt x="21393" y="8154"/>
                      <a:pt x="21411" y="8075"/>
                      <a:pt x="21336" y="7912"/>
                    </a:cubicBezTo>
                    <a:cubicBezTo>
                      <a:pt x="20846" y="6851"/>
                      <a:pt x="20362" y="5788"/>
                      <a:pt x="19892" y="4718"/>
                    </a:cubicBezTo>
                    <a:cubicBezTo>
                      <a:pt x="19806" y="4523"/>
                      <a:pt x="19717" y="4523"/>
                      <a:pt x="19541" y="4574"/>
                    </a:cubicBezTo>
                    <a:cubicBezTo>
                      <a:pt x="18917" y="4751"/>
                      <a:pt x="18286" y="4905"/>
                      <a:pt x="17662" y="5080"/>
                    </a:cubicBezTo>
                    <a:cubicBezTo>
                      <a:pt x="17490" y="5129"/>
                      <a:pt x="17378" y="5103"/>
                      <a:pt x="17261" y="4959"/>
                    </a:cubicBezTo>
                    <a:cubicBezTo>
                      <a:pt x="16959" y="4585"/>
                      <a:pt x="16599" y="4263"/>
                      <a:pt x="16213" y="3983"/>
                    </a:cubicBezTo>
                    <a:cubicBezTo>
                      <a:pt x="16001" y="3828"/>
                      <a:pt x="15960" y="3672"/>
                      <a:pt x="16008" y="3442"/>
                    </a:cubicBezTo>
                    <a:cubicBezTo>
                      <a:pt x="16135" y="2831"/>
                      <a:pt x="16245" y="2217"/>
                      <a:pt x="16383" y="1609"/>
                    </a:cubicBezTo>
                    <a:cubicBezTo>
                      <a:pt x="16428" y="1413"/>
                      <a:pt x="16387" y="1327"/>
                      <a:pt x="16201" y="1258"/>
                    </a:cubicBezTo>
                    <a:cubicBezTo>
                      <a:pt x="15118" y="858"/>
                      <a:pt x="14036" y="450"/>
                      <a:pt x="12956" y="36"/>
                    </a:cubicBezTo>
                    <a:cubicBezTo>
                      <a:pt x="12911" y="19"/>
                      <a:pt x="12873" y="7"/>
                      <a:pt x="12837" y="2"/>
                    </a:cubicBezTo>
                    <a:close/>
                    <a:moveTo>
                      <a:pt x="10766" y="5818"/>
                    </a:moveTo>
                    <a:cubicBezTo>
                      <a:pt x="13503" y="5818"/>
                      <a:pt x="15722" y="8039"/>
                      <a:pt x="15722" y="10778"/>
                    </a:cubicBezTo>
                    <a:cubicBezTo>
                      <a:pt x="15722" y="13517"/>
                      <a:pt x="13503" y="15738"/>
                      <a:pt x="10766" y="15738"/>
                    </a:cubicBezTo>
                    <a:cubicBezTo>
                      <a:pt x="8030" y="15738"/>
                      <a:pt x="5810" y="13517"/>
                      <a:pt x="5810" y="10778"/>
                    </a:cubicBezTo>
                    <a:cubicBezTo>
                      <a:pt x="5810" y="8039"/>
                      <a:pt x="8030" y="5818"/>
                      <a:pt x="10766" y="5818"/>
                    </a:cubicBezTo>
                    <a:close/>
                  </a:path>
                </a:pathLst>
              </a:custGeom>
              <a:solidFill>
                <a:srgbClr val="000000"/>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grpSp>
        <p:pic>
          <p:nvPicPr>
            <p:cNvPr id="368" name="CTIQ_comms.ai" descr="CTIQ_comms.ai"/>
            <p:cNvPicPr/>
            <p:nvPr/>
          </p:nvPicPr>
          <p:blipFill>
            <a:blip r:embed="rId3"/>
            <a:stretch/>
          </p:blipFill>
          <p:spPr>
            <a:xfrm>
              <a:off x="3445200" y="2019960"/>
              <a:ext cx="1085400" cy="1085400"/>
            </a:xfrm>
            <a:prstGeom prst="rect">
              <a:avLst/>
            </a:prstGeom>
            <a:ln w="0">
              <a:noFill/>
            </a:ln>
          </p:spPr>
        </p:pic>
        <p:pic>
          <p:nvPicPr>
            <p:cNvPr id="369" name="CTIQ_concensus.ai" descr="CTIQ_concensus.ai"/>
            <p:cNvPicPr/>
            <p:nvPr/>
          </p:nvPicPr>
          <p:blipFill>
            <a:blip r:embed="rId4"/>
            <a:stretch/>
          </p:blipFill>
          <p:spPr>
            <a:xfrm>
              <a:off x="5968440" y="439560"/>
              <a:ext cx="892080" cy="1174680"/>
            </a:xfrm>
            <a:prstGeom prst="rect">
              <a:avLst/>
            </a:prstGeom>
            <a:ln w="0">
              <a:noFill/>
            </a:ln>
          </p:spPr>
        </p:pic>
        <p:pic>
          <p:nvPicPr>
            <p:cNvPr id="370" name="CTIQ_evidencebased.ai" descr="CTIQ_evidencebased.ai"/>
            <p:cNvPicPr/>
            <p:nvPr/>
          </p:nvPicPr>
          <p:blipFill>
            <a:blip r:embed="rId5"/>
            <a:stretch/>
          </p:blipFill>
          <p:spPr>
            <a:xfrm>
              <a:off x="4230360" y="3589200"/>
              <a:ext cx="950760" cy="873360"/>
            </a:xfrm>
            <a:prstGeom prst="rect">
              <a:avLst/>
            </a:prstGeom>
            <a:ln w="0">
              <a:noFill/>
            </a:ln>
          </p:spPr>
        </p:pic>
        <p:pic>
          <p:nvPicPr>
            <p:cNvPr id="371" name="CTIQ_advocacy.ai" descr="CTIQ_advocacy.ai"/>
            <p:cNvPicPr/>
            <p:nvPr/>
          </p:nvPicPr>
          <p:blipFill>
            <a:blip r:embed="rId6"/>
            <a:stretch/>
          </p:blipFill>
          <p:spPr>
            <a:xfrm>
              <a:off x="6068520" y="3473280"/>
              <a:ext cx="950760" cy="93744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Core activities that CT:IQ may undertake"/>
          <p:cNvSpPr/>
          <p:nvPr/>
        </p:nvSpPr>
        <p:spPr>
          <a:xfrm>
            <a:off x="3625200" y="4344840"/>
            <a:ext cx="5163840" cy="602280"/>
          </a:xfrm>
          <a:prstGeom prst="rect">
            <a:avLst/>
          </a:prstGeom>
          <a:noFill/>
          <a:ln w="0">
            <a:noFill/>
          </a:ln>
        </p:spPr>
        <p:style>
          <a:lnRef idx="0"/>
          <a:fillRef idx="0"/>
          <a:effectRef idx="0"/>
          <a:fontRef idx="minor"/>
        </p:style>
        <p:txBody>
          <a:bodyPr wrap="none" lIns="26640" rIns="26640" tIns="26640" bIns="26640" anchor="ctr">
            <a:spAutoFit/>
          </a:bodyPr>
          <a:p>
            <a:pPr algn="just">
              <a:lnSpc>
                <a:spcPct val="15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400" spc="-1" strike="noStrike">
                <a:solidFill>
                  <a:srgbClr val="a6a6a6"/>
                </a:solidFill>
                <a:latin typeface="Calibri"/>
                <a:ea typeface="Calibri"/>
              </a:rPr>
              <a:t>Core activities that CT:IQ may undertake</a:t>
            </a:r>
            <a:endParaRPr b="0" lang="en-US" sz="2400" spc="-1" strike="noStrike">
              <a:solidFill>
                <a:srgbClr val="000000"/>
              </a:solidFill>
              <a:latin typeface="Calibri"/>
            </a:endParaRPr>
          </a:p>
        </p:txBody>
      </p:sp>
      <p:grpSp>
        <p:nvGrpSpPr>
          <p:cNvPr id="373" name="Group 1"/>
          <p:cNvGrpSpPr/>
          <p:nvPr/>
        </p:nvGrpSpPr>
        <p:grpSpPr>
          <a:xfrm>
            <a:off x="411120" y="229320"/>
            <a:ext cx="3672000" cy="3913920"/>
            <a:chOff x="411120" y="229320"/>
            <a:chExt cx="3672000" cy="3913920"/>
          </a:xfrm>
        </p:grpSpPr>
        <p:grpSp>
          <p:nvGrpSpPr>
            <p:cNvPr id="374" name="Group"/>
            <p:cNvGrpSpPr/>
            <p:nvPr/>
          </p:nvGrpSpPr>
          <p:grpSpPr>
            <a:xfrm>
              <a:off x="2810160" y="1784880"/>
              <a:ext cx="937800" cy="938160"/>
              <a:chOff x="2810160" y="1784880"/>
              <a:chExt cx="937800" cy="938160"/>
            </a:xfrm>
          </p:grpSpPr>
          <p:sp>
            <p:nvSpPr>
              <p:cNvPr id="375" name="World"/>
              <p:cNvSpPr/>
              <p:nvPr/>
            </p:nvSpPr>
            <p:spPr>
              <a:xfrm>
                <a:off x="2810160" y="1784880"/>
                <a:ext cx="937800" cy="938160"/>
              </a:xfrm>
              <a:custGeom>
                <a:avLst/>
                <a:gdLst/>
                <a:ahLst/>
                <a:rect l="l" t="t" r="r" b="b"/>
                <a:pathLst>
                  <a:path w="21600" h="21600">
                    <a:moveTo>
                      <a:pt x="10800" y="0"/>
                    </a:moveTo>
                    <a:cubicBezTo>
                      <a:pt x="4845" y="0"/>
                      <a:pt x="0" y="4845"/>
                      <a:pt x="0" y="10800"/>
                    </a:cubicBezTo>
                    <a:cubicBezTo>
                      <a:pt x="0" y="16755"/>
                      <a:pt x="4845" y="21600"/>
                      <a:pt x="10800" y="21600"/>
                    </a:cubicBezTo>
                    <a:cubicBezTo>
                      <a:pt x="16755" y="21600"/>
                      <a:pt x="21600" y="16755"/>
                      <a:pt x="21600" y="10800"/>
                    </a:cubicBezTo>
                    <a:cubicBezTo>
                      <a:pt x="21600" y="4845"/>
                      <a:pt x="16755" y="0"/>
                      <a:pt x="10800" y="0"/>
                    </a:cubicBezTo>
                    <a:close/>
                    <a:moveTo>
                      <a:pt x="11993" y="938"/>
                    </a:moveTo>
                    <a:cubicBezTo>
                      <a:pt x="14122" y="1194"/>
                      <a:pt x="16044" y="2125"/>
                      <a:pt x="17542" y="3512"/>
                    </a:cubicBezTo>
                    <a:cubicBezTo>
                      <a:pt x="16898" y="4108"/>
                      <a:pt x="16188" y="4611"/>
                      <a:pt x="15429" y="5012"/>
                    </a:cubicBezTo>
                    <a:cubicBezTo>
                      <a:pt x="15343" y="4850"/>
                      <a:pt x="15255" y="4689"/>
                      <a:pt x="15162" y="4531"/>
                    </a:cubicBezTo>
                    <a:cubicBezTo>
                      <a:pt x="14347" y="3140"/>
                      <a:pt x="13267" y="1918"/>
                      <a:pt x="11993" y="938"/>
                    </a:cubicBezTo>
                    <a:close/>
                    <a:moveTo>
                      <a:pt x="9560" y="943"/>
                    </a:moveTo>
                    <a:cubicBezTo>
                      <a:pt x="8289" y="1922"/>
                      <a:pt x="7211" y="3142"/>
                      <a:pt x="6397" y="4531"/>
                    </a:cubicBezTo>
                    <a:cubicBezTo>
                      <a:pt x="6308" y="4684"/>
                      <a:pt x="6222" y="4839"/>
                      <a:pt x="6139" y="4995"/>
                    </a:cubicBezTo>
                    <a:cubicBezTo>
                      <a:pt x="5392" y="4597"/>
                      <a:pt x="4693" y="4100"/>
                      <a:pt x="4058" y="3512"/>
                    </a:cubicBezTo>
                    <a:cubicBezTo>
                      <a:pt x="5545" y="2136"/>
                      <a:pt x="7450" y="1207"/>
                      <a:pt x="9560" y="943"/>
                    </a:cubicBezTo>
                    <a:close/>
                    <a:moveTo>
                      <a:pt x="10366" y="1421"/>
                    </a:moveTo>
                    <a:lnTo>
                      <a:pt x="10366" y="6141"/>
                    </a:lnTo>
                    <a:cubicBezTo>
                      <a:pt x="9165" y="6090"/>
                      <a:pt x="8002" y="5827"/>
                      <a:pt x="6920" y="5368"/>
                    </a:cubicBezTo>
                    <a:cubicBezTo>
                      <a:pt x="6992" y="5234"/>
                      <a:pt x="7066" y="5100"/>
                      <a:pt x="7143" y="4968"/>
                    </a:cubicBezTo>
                    <a:cubicBezTo>
                      <a:pt x="7960" y="3575"/>
                      <a:pt x="9062" y="2365"/>
                      <a:pt x="10366" y="1421"/>
                    </a:cubicBezTo>
                    <a:close/>
                    <a:moveTo>
                      <a:pt x="11234" y="1451"/>
                    </a:moveTo>
                    <a:cubicBezTo>
                      <a:pt x="12520" y="2391"/>
                      <a:pt x="13607" y="3589"/>
                      <a:pt x="14415" y="4968"/>
                    </a:cubicBezTo>
                    <a:cubicBezTo>
                      <a:pt x="14495" y="5104"/>
                      <a:pt x="14572" y="5244"/>
                      <a:pt x="14646" y="5383"/>
                    </a:cubicBezTo>
                    <a:cubicBezTo>
                      <a:pt x="13574" y="5833"/>
                      <a:pt x="12424" y="6090"/>
                      <a:pt x="11234" y="6141"/>
                    </a:cubicBezTo>
                    <a:lnTo>
                      <a:pt x="11234" y="1451"/>
                    </a:lnTo>
                    <a:close/>
                    <a:moveTo>
                      <a:pt x="3448" y="4128"/>
                    </a:moveTo>
                    <a:cubicBezTo>
                      <a:pt x="4152" y="4783"/>
                      <a:pt x="4928" y="5335"/>
                      <a:pt x="5759" y="5775"/>
                    </a:cubicBezTo>
                    <a:cubicBezTo>
                      <a:pt x="5120" y="7219"/>
                      <a:pt x="4759" y="8779"/>
                      <a:pt x="4701" y="10368"/>
                    </a:cubicBezTo>
                    <a:lnTo>
                      <a:pt x="876" y="10368"/>
                    </a:lnTo>
                    <a:cubicBezTo>
                      <a:pt x="979" y="7972"/>
                      <a:pt x="1935" y="5793"/>
                      <a:pt x="3448" y="4128"/>
                    </a:cubicBezTo>
                    <a:close/>
                    <a:moveTo>
                      <a:pt x="18152" y="4128"/>
                    </a:moveTo>
                    <a:cubicBezTo>
                      <a:pt x="19665" y="5793"/>
                      <a:pt x="20621" y="7972"/>
                      <a:pt x="20724" y="10368"/>
                    </a:cubicBezTo>
                    <a:lnTo>
                      <a:pt x="16858" y="10368"/>
                    </a:lnTo>
                    <a:cubicBezTo>
                      <a:pt x="16800" y="8785"/>
                      <a:pt x="16441" y="7231"/>
                      <a:pt x="15807" y="5792"/>
                    </a:cubicBezTo>
                    <a:cubicBezTo>
                      <a:pt x="16650" y="5349"/>
                      <a:pt x="17439" y="4792"/>
                      <a:pt x="18152" y="4128"/>
                    </a:cubicBezTo>
                    <a:close/>
                    <a:moveTo>
                      <a:pt x="6541" y="6148"/>
                    </a:moveTo>
                    <a:cubicBezTo>
                      <a:pt x="7739" y="6662"/>
                      <a:pt x="9031" y="6956"/>
                      <a:pt x="10366" y="7008"/>
                    </a:cubicBezTo>
                    <a:lnTo>
                      <a:pt x="10366" y="10368"/>
                    </a:lnTo>
                    <a:lnTo>
                      <a:pt x="5569" y="10368"/>
                    </a:lnTo>
                    <a:cubicBezTo>
                      <a:pt x="5626" y="8908"/>
                      <a:pt x="5956" y="7475"/>
                      <a:pt x="6541" y="6148"/>
                    </a:cubicBezTo>
                    <a:close/>
                    <a:moveTo>
                      <a:pt x="15024" y="6163"/>
                    </a:moveTo>
                    <a:cubicBezTo>
                      <a:pt x="15604" y="7486"/>
                      <a:pt x="15934" y="8914"/>
                      <a:pt x="15991" y="10368"/>
                    </a:cubicBezTo>
                    <a:lnTo>
                      <a:pt x="11234" y="10368"/>
                    </a:lnTo>
                    <a:lnTo>
                      <a:pt x="11234" y="7008"/>
                    </a:lnTo>
                    <a:cubicBezTo>
                      <a:pt x="12557" y="6956"/>
                      <a:pt x="13835" y="6668"/>
                      <a:pt x="15024" y="6163"/>
                    </a:cubicBezTo>
                    <a:close/>
                    <a:moveTo>
                      <a:pt x="876" y="11234"/>
                    </a:moveTo>
                    <a:lnTo>
                      <a:pt x="4700" y="11234"/>
                    </a:lnTo>
                    <a:cubicBezTo>
                      <a:pt x="4753" y="12849"/>
                      <a:pt x="5119" y="14437"/>
                      <a:pt x="5773" y="15903"/>
                    </a:cubicBezTo>
                    <a:cubicBezTo>
                      <a:pt x="4953" y="16335"/>
                      <a:pt x="4185" y="16876"/>
                      <a:pt x="3488" y="17518"/>
                    </a:cubicBezTo>
                    <a:cubicBezTo>
                      <a:pt x="1952" y="15847"/>
                      <a:pt x="980" y="13652"/>
                      <a:pt x="876" y="11234"/>
                    </a:cubicBezTo>
                    <a:close/>
                    <a:moveTo>
                      <a:pt x="5567" y="11234"/>
                    </a:moveTo>
                    <a:lnTo>
                      <a:pt x="10366" y="11234"/>
                    </a:lnTo>
                    <a:lnTo>
                      <a:pt x="10366" y="14676"/>
                    </a:lnTo>
                    <a:cubicBezTo>
                      <a:pt x="9036" y="14728"/>
                      <a:pt x="7749" y="15021"/>
                      <a:pt x="6554" y="15532"/>
                    </a:cubicBezTo>
                    <a:cubicBezTo>
                      <a:pt x="5955" y="14182"/>
                      <a:pt x="5619" y="12720"/>
                      <a:pt x="5567" y="11234"/>
                    </a:cubicBezTo>
                    <a:close/>
                    <a:moveTo>
                      <a:pt x="11234" y="11234"/>
                    </a:moveTo>
                    <a:lnTo>
                      <a:pt x="15992" y="11234"/>
                    </a:lnTo>
                    <a:cubicBezTo>
                      <a:pt x="15940" y="12714"/>
                      <a:pt x="15605" y="14169"/>
                      <a:pt x="15010" y="15515"/>
                    </a:cubicBezTo>
                    <a:cubicBezTo>
                      <a:pt x="13825" y="15013"/>
                      <a:pt x="12552" y="14728"/>
                      <a:pt x="11234" y="14676"/>
                    </a:cubicBezTo>
                    <a:lnTo>
                      <a:pt x="11234" y="11234"/>
                    </a:lnTo>
                    <a:close/>
                    <a:moveTo>
                      <a:pt x="16860" y="11234"/>
                    </a:moveTo>
                    <a:lnTo>
                      <a:pt x="20724" y="11234"/>
                    </a:lnTo>
                    <a:cubicBezTo>
                      <a:pt x="20620" y="13652"/>
                      <a:pt x="19648" y="15847"/>
                      <a:pt x="18112" y="17518"/>
                    </a:cubicBezTo>
                    <a:cubicBezTo>
                      <a:pt x="17406" y="16867"/>
                      <a:pt x="16627" y="16321"/>
                      <a:pt x="15795" y="15886"/>
                    </a:cubicBezTo>
                    <a:cubicBezTo>
                      <a:pt x="16444" y="14425"/>
                      <a:pt x="16807" y="12842"/>
                      <a:pt x="16860" y="11234"/>
                    </a:cubicBezTo>
                    <a:close/>
                    <a:moveTo>
                      <a:pt x="10366" y="15544"/>
                    </a:moveTo>
                    <a:lnTo>
                      <a:pt x="10366" y="20226"/>
                    </a:lnTo>
                    <a:cubicBezTo>
                      <a:pt x="9026" y="19256"/>
                      <a:pt x="7899" y="18005"/>
                      <a:pt x="7077" y="16566"/>
                    </a:cubicBezTo>
                    <a:cubicBezTo>
                      <a:pt x="7029" y="16481"/>
                      <a:pt x="6982" y="16396"/>
                      <a:pt x="6936" y="16310"/>
                    </a:cubicBezTo>
                    <a:cubicBezTo>
                      <a:pt x="8013" y="15855"/>
                      <a:pt x="9170" y="15594"/>
                      <a:pt x="10366" y="15544"/>
                    </a:cubicBezTo>
                    <a:close/>
                    <a:moveTo>
                      <a:pt x="11234" y="15544"/>
                    </a:moveTo>
                    <a:cubicBezTo>
                      <a:pt x="12418" y="15594"/>
                      <a:pt x="13563" y="15849"/>
                      <a:pt x="14631" y="16295"/>
                    </a:cubicBezTo>
                    <a:cubicBezTo>
                      <a:pt x="14582" y="16386"/>
                      <a:pt x="14532" y="16476"/>
                      <a:pt x="14480" y="16566"/>
                    </a:cubicBezTo>
                    <a:cubicBezTo>
                      <a:pt x="13667" y="17990"/>
                      <a:pt x="12556" y="19230"/>
                      <a:pt x="11234" y="20196"/>
                    </a:cubicBezTo>
                    <a:lnTo>
                      <a:pt x="11234" y="15544"/>
                    </a:lnTo>
                    <a:close/>
                    <a:moveTo>
                      <a:pt x="15415" y="16666"/>
                    </a:moveTo>
                    <a:cubicBezTo>
                      <a:pt x="16162" y="17059"/>
                      <a:pt x="16861" y="17548"/>
                      <a:pt x="17498" y="18130"/>
                    </a:cubicBezTo>
                    <a:cubicBezTo>
                      <a:pt x="16023" y="19479"/>
                      <a:pt x="14143" y="20390"/>
                      <a:pt x="12062" y="20655"/>
                    </a:cubicBezTo>
                    <a:cubicBezTo>
                      <a:pt x="13343" y="19655"/>
                      <a:pt x="14426" y="18410"/>
                      <a:pt x="15233" y="16997"/>
                    </a:cubicBezTo>
                    <a:cubicBezTo>
                      <a:pt x="15295" y="16887"/>
                      <a:pt x="15356" y="16777"/>
                      <a:pt x="15415" y="16666"/>
                    </a:cubicBezTo>
                    <a:close/>
                    <a:moveTo>
                      <a:pt x="6153" y="16683"/>
                    </a:moveTo>
                    <a:cubicBezTo>
                      <a:pt x="6209" y="16788"/>
                      <a:pt x="6267" y="16893"/>
                      <a:pt x="6326" y="16997"/>
                    </a:cubicBezTo>
                    <a:cubicBezTo>
                      <a:pt x="7132" y="18407"/>
                      <a:pt x="8212" y="19649"/>
                      <a:pt x="9489" y="20648"/>
                    </a:cubicBezTo>
                    <a:cubicBezTo>
                      <a:pt x="7428" y="20375"/>
                      <a:pt x="5565" y="19468"/>
                      <a:pt x="4102" y="18130"/>
                    </a:cubicBezTo>
                    <a:cubicBezTo>
                      <a:pt x="4730" y="17557"/>
                      <a:pt x="5418" y="17073"/>
                      <a:pt x="6153" y="16683"/>
                    </a:cubicBezTo>
                    <a:close/>
                  </a:path>
                </a:pathLst>
              </a:custGeom>
              <a:solidFill>
                <a:srgbClr val="d6d5d5"/>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376" name="Arrow"/>
              <p:cNvSpPr/>
              <p:nvPr/>
            </p:nvSpPr>
            <p:spPr>
              <a:xfrm>
                <a:off x="3003480" y="1935720"/>
                <a:ext cx="634680" cy="636480"/>
              </a:xfrm>
              <a:prstGeom prst="rightArrow">
                <a:avLst>
                  <a:gd name="adj1" fmla="val 32000"/>
                  <a:gd name="adj2" fmla="val 64000"/>
                </a:avLst>
              </a:prstGeom>
              <a:solidFill>
                <a:srgbClr val="929292"/>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377" name="Group"/>
            <p:cNvGrpSpPr/>
            <p:nvPr/>
          </p:nvGrpSpPr>
          <p:grpSpPr>
            <a:xfrm>
              <a:off x="2817360" y="751320"/>
              <a:ext cx="962640" cy="934560"/>
              <a:chOff x="2817360" y="751320"/>
              <a:chExt cx="962640" cy="934560"/>
            </a:xfrm>
          </p:grpSpPr>
          <p:pic>
            <p:nvPicPr>
              <p:cNvPr id="378" name="Image" descr="Image"/>
              <p:cNvPicPr/>
              <p:nvPr/>
            </p:nvPicPr>
            <p:blipFill>
              <a:blip r:embed="rId1"/>
              <a:stretch/>
            </p:blipFill>
            <p:spPr>
              <a:xfrm>
                <a:off x="2817360" y="751320"/>
                <a:ext cx="962640" cy="934560"/>
              </a:xfrm>
              <a:prstGeom prst="rect">
                <a:avLst/>
              </a:prstGeom>
              <a:ln w="0">
                <a:noFill/>
              </a:ln>
            </p:spPr>
          </p:pic>
          <p:sp>
            <p:nvSpPr>
              <p:cNvPr id="379" name="Hospital"/>
              <p:cNvSpPr/>
              <p:nvPr/>
            </p:nvSpPr>
            <p:spPr>
              <a:xfrm>
                <a:off x="2909880" y="1099800"/>
                <a:ext cx="239760" cy="185760"/>
              </a:xfrm>
              <a:custGeom>
                <a:avLst/>
                <a:gdLst/>
                <a:ahLst/>
                <a:rect l="l" t="t" r="r" b="b"/>
                <a:pathLst>
                  <a:path w="21600" h="21600">
                    <a:moveTo>
                      <a:pt x="3341" y="0"/>
                    </a:moveTo>
                    <a:lnTo>
                      <a:pt x="3341" y="3754"/>
                    </a:lnTo>
                    <a:lnTo>
                      <a:pt x="0" y="3754"/>
                    </a:lnTo>
                    <a:lnTo>
                      <a:pt x="0" y="21600"/>
                    </a:lnTo>
                    <a:lnTo>
                      <a:pt x="8297" y="21600"/>
                    </a:lnTo>
                    <a:lnTo>
                      <a:pt x="8297" y="17275"/>
                    </a:lnTo>
                    <a:lnTo>
                      <a:pt x="9939" y="17275"/>
                    </a:lnTo>
                    <a:lnTo>
                      <a:pt x="9939" y="21600"/>
                    </a:lnTo>
                    <a:lnTo>
                      <a:pt x="11595" y="21600"/>
                    </a:lnTo>
                    <a:lnTo>
                      <a:pt x="11595" y="17275"/>
                    </a:lnTo>
                    <a:lnTo>
                      <a:pt x="13239" y="17275"/>
                    </a:lnTo>
                    <a:lnTo>
                      <a:pt x="13239" y="21600"/>
                    </a:lnTo>
                    <a:lnTo>
                      <a:pt x="21600" y="21600"/>
                    </a:lnTo>
                    <a:lnTo>
                      <a:pt x="21600" y="3754"/>
                    </a:lnTo>
                    <a:lnTo>
                      <a:pt x="18195" y="3754"/>
                    </a:lnTo>
                    <a:lnTo>
                      <a:pt x="18195" y="0"/>
                    </a:lnTo>
                    <a:lnTo>
                      <a:pt x="3341" y="0"/>
                    </a:lnTo>
                    <a:close/>
                    <a:moveTo>
                      <a:pt x="4997" y="1938"/>
                    </a:moveTo>
                    <a:lnTo>
                      <a:pt x="6641" y="1938"/>
                    </a:lnTo>
                    <a:lnTo>
                      <a:pt x="6641" y="3754"/>
                    </a:lnTo>
                    <a:lnTo>
                      <a:pt x="4997" y="3754"/>
                    </a:lnTo>
                    <a:lnTo>
                      <a:pt x="4997" y="1938"/>
                    </a:lnTo>
                    <a:close/>
                    <a:moveTo>
                      <a:pt x="8297" y="1938"/>
                    </a:moveTo>
                    <a:lnTo>
                      <a:pt x="9939" y="1938"/>
                    </a:lnTo>
                    <a:lnTo>
                      <a:pt x="9939" y="3754"/>
                    </a:lnTo>
                    <a:lnTo>
                      <a:pt x="8297" y="3754"/>
                    </a:lnTo>
                    <a:lnTo>
                      <a:pt x="8297" y="1938"/>
                    </a:lnTo>
                    <a:close/>
                    <a:moveTo>
                      <a:pt x="11595" y="1938"/>
                    </a:moveTo>
                    <a:lnTo>
                      <a:pt x="13239" y="1938"/>
                    </a:lnTo>
                    <a:lnTo>
                      <a:pt x="13239" y="3754"/>
                    </a:lnTo>
                    <a:lnTo>
                      <a:pt x="11595" y="3754"/>
                    </a:lnTo>
                    <a:lnTo>
                      <a:pt x="11595" y="1938"/>
                    </a:lnTo>
                    <a:close/>
                    <a:moveTo>
                      <a:pt x="14895" y="1938"/>
                    </a:moveTo>
                    <a:lnTo>
                      <a:pt x="16538" y="1938"/>
                    </a:lnTo>
                    <a:lnTo>
                      <a:pt x="16538" y="3754"/>
                    </a:lnTo>
                    <a:lnTo>
                      <a:pt x="14895" y="3754"/>
                    </a:lnTo>
                    <a:lnTo>
                      <a:pt x="14895" y="1938"/>
                    </a:lnTo>
                    <a:close/>
                    <a:moveTo>
                      <a:pt x="1698" y="5774"/>
                    </a:moveTo>
                    <a:lnTo>
                      <a:pt x="3341" y="5774"/>
                    </a:lnTo>
                    <a:lnTo>
                      <a:pt x="3341" y="7590"/>
                    </a:lnTo>
                    <a:lnTo>
                      <a:pt x="1698" y="7590"/>
                    </a:lnTo>
                    <a:lnTo>
                      <a:pt x="1698" y="5774"/>
                    </a:lnTo>
                    <a:close/>
                    <a:moveTo>
                      <a:pt x="4997" y="5774"/>
                    </a:moveTo>
                    <a:lnTo>
                      <a:pt x="6641" y="5774"/>
                    </a:lnTo>
                    <a:lnTo>
                      <a:pt x="6641" y="7590"/>
                    </a:lnTo>
                    <a:lnTo>
                      <a:pt x="4997" y="7590"/>
                    </a:lnTo>
                    <a:lnTo>
                      <a:pt x="4997" y="5774"/>
                    </a:lnTo>
                    <a:close/>
                    <a:moveTo>
                      <a:pt x="8297" y="5774"/>
                    </a:moveTo>
                    <a:lnTo>
                      <a:pt x="9939" y="5774"/>
                    </a:lnTo>
                    <a:lnTo>
                      <a:pt x="9939" y="7590"/>
                    </a:lnTo>
                    <a:lnTo>
                      <a:pt x="8297" y="7590"/>
                    </a:lnTo>
                    <a:lnTo>
                      <a:pt x="8297" y="5774"/>
                    </a:lnTo>
                    <a:close/>
                    <a:moveTo>
                      <a:pt x="11595" y="5774"/>
                    </a:moveTo>
                    <a:lnTo>
                      <a:pt x="13239" y="5774"/>
                    </a:lnTo>
                    <a:lnTo>
                      <a:pt x="13239" y="7590"/>
                    </a:lnTo>
                    <a:lnTo>
                      <a:pt x="11595" y="7590"/>
                    </a:lnTo>
                    <a:lnTo>
                      <a:pt x="11595" y="5774"/>
                    </a:lnTo>
                    <a:close/>
                    <a:moveTo>
                      <a:pt x="14895" y="5774"/>
                    </a:moveTo>
                    <a:lnTo>
                      <a:pt x="16538" y="5774"/>
                    </a:lnTo>
                    <a:lnTo>
                      <a:pt x="16538" y="7590"/>
                    </a:lnTo>
                    <a:lnTo>
                      <a:pt x="14895" y="7590"/>
                    </a:lnTo>
                    <a:lnTo>
                      <a:pt x="14895" y="5774"/>
                    </a:lnTo>
                    <a:close/>
                    <a:moveTo>
                      <a:pt x="18195" y="5774"/>
                    </a:moveTo>
                    <a:lnTo>
                      <a:pt x="19838" y="5774"/>
                    </a:lnTo>
                    <a:lnTo>
                      <a:pt x="19838" y="7590"/>
                    </a:lnTo>
                    <a:lnTo>
                      <a:pt x="18195" y="7590"/>
                    </a:lnTo>
                    <a:lnTo>
                      <a:pt x="18195" y="5774"/>
                    </a:lnTo>
                    <a:close/>
                    <a:moveTo>
                      <a:pt x="1698" y="9608"/>
                    </a:moveTo>
                    <a:lnTo>
                      <a:pt x="3341" y="9608"/>
                    </a:lnTo>
                    <a:lnTo>
                      <a:pt x="3341" y="11424"/>
                    </a:lnTo>
                    <a:lnTo>
                      <a:pt x="1698" y="11424"/>
                    </a:lnTo>
                    <a:lnTo>
                      <a:pt x="1698" y="9608"/>
                    </a:lnTo>
                    <a:close/>
                    <a:moveTo>
                      <a:pt x="4997" y="9608"/>
                    </a:moveTo>
                    <a:lnTo>
                      <a:pt x="6641" y="9608"/>
                    </a:lnTo>
                    <a:lnTo>
                      <a:pt x="6641" y="11424"/>
                    </a:lnTo>
                    <a:lnTo>
                      <a:pt x="4997" y="11424"/>
                    </a:lnTo>
                    <a:lnTo>
                      <a:pt x="4997" y="9608"/>
                    </a:lnTo>
                    <a:close/>
                    <a:moveTo>
                      <a:pt x="14895" y="9608"/>
                    </a:moveTo>
                    <a:lnTo>
                      <a:pt x="16538" y="9608"/>
                    </a:lnTo>
                    <a:lnTo>
                      <a:pt x="16538" y="11424"/>
                    </a:lnTo>
                    <a:lnTo>
                      <a:pt x="14895" y="11424"/>
                    </a:lnTo>
                    <a:lnTo>
                      <a:pt x="14895" y="9608"/>
                    </a:lnTo>
                    <a:close/>
                    <a:moveTo>
                      <a:pt x="18195" y="9608"/>
                    </a:moveTo>
                    <a:lnTo>
                      <a:pt x="19838" y="9608"/>
                    </a:lnTo>
                    <a:lnTo>
                      <a:pt x="19838" y="11424"/>
                    </a:lnTo>
                    <a:lnTo>
                      <a:pt x="18195" y="11424"/>
                    </a:lnTo>
                    <a:lnTo>
                      <a:pt x="18195" y="9608"/>
                    </a:lnTo>
                    <a:close/>
                    <a:moveTo>
                      <a:pt x="10799" y="9711"/>
                    </a:moveTo>
                    <a:cubicBezTo>
                      <a:pt x="11937" y="9711"/>
                      <a:pt x="12861" y="10893"/>
                      <a:pt x="12861" y="12350"/>
                    </a:cubicBezTo>
                    <a:cubicBezTo>
                      <a:pt x="12861" y="13806"/>
                      <a:pt x="11937" y="14988"/>
                      <a:pt x="10799" y="14988"/>
                    </a:cubicBezTo>
                    <a:cubicBezTo>
                      <a:pt x="9661" y="14988"/>
                      <a:pt x="8739" y="13806"/>
                      <a:pt x="8739" y="12350"/>
                    </a:cubicBezTo>
                    <a:cubicBezTo>
                      <a:pt x="8739" y="10893"/>
                      <a:pt x="9661" y="9711"/>
                      <a:pt x="10799" y="9711"/>
                    </a:cubicBezTo>
                    <a:close/>
                    <a:moveTo>
                      <a:pt x="10314" y="10706"/>
                    </a:moveTo>
                    <a:lnTo>
                      <a:pt x="10314" y="11729"/>
                    </a:lnTo>
                    <a:lnTo>
                      <a:pt x="9515" y="11729"/>
                    </a:lnTo>
                    <a:lnTo>
                      <a:pt x="9515" y="12970"/>
                    </a:lnTo>
                    <a:lnTo>
                      <a:pt x="10314" y="12970"/>
                    </a:lnTo>
                    <a:lnTo>
                      <a:pt x="10314" y="13993"/>
                    </a:lnTo>
                    <a:lnTo>
                      <a:pt x="11284" y="13993"/>
                    </a:lnTo>
                    <a:lnTo>
                      <a:pt x="11284" y="12970"/>
                    </a:lnTo>
                    <a:lnTo>
                      <a:pt x="12083" y="12970"/>
                    </a:lnTo>
                    <a:lnTo>
                      <a:pt x="12083" y="11729"/>
                    </a:lnTo>
                    <a:lnTo>
                      <a:pt x="11284" y="11729"/>
                    </a:lnTo>
                    <a:lnTo>
                      <a:pt x="11284" y="10706"/>
                    </a:lnTo>
                    <a:lnTo>
                      <a:pt x="10314" y="10706"/>
                    </a:lnTo>
                    <a:close/>
                    <a:moveTo>
                      <a:pt x="1698" y="13442"/>
                    </a:moveTo>
                    <a:lnTo>
                      <a:pt x="3341" y="13442"/>
                    </a:lnTo>
                    <a:lnTo>
                      <a:pt x="3341" y="15257"/>
                    </a:lnTo>
                    <a:lnTo>
                      <a:pt x="1698" y="15257"/>
                    </a:lnTo>
                    <a:lnTo>
                      <a:pt x="1698" y="13442"/>
                    </a:lnTo>
                    <a:close/>
                    <a:moveTo>
                      <a:pt x="4997" y="13442"/>
                    </a:moveTo>
                    <a:lnTo>
                      <a:pt x="6641" y="13442"/>
                    </a:lnTo>
                    <a:lnTo>
                      <a:pt x="6641" y="15257"/>
                    </a:lnTo>
                    <a:lnTo>
                      <a:pt x="4997" y="15257"/>
                    </a:lnTo>
                    <a:lnTo>
                      <a:pt x="4997" y="13442"/>
                    </a:lnTo>
                    <a:close/>
                    <a:moveTo>
                      <a:pt x="14895" y="13442"/>
                    </a:moveTo>
                    <a:lnTo>
                      <a:pt x="16538" y="13442"/>
                    </a:lnTo>
                    <a:lnTo>
                      <a:pt x="16538" y="15257"/>
                    </a:lnTo>
                    <a:lnTo>
                      <a:pt x="14895" y="15257"/>
                    </a:lnTo>
                    <a:lnTo>
                      <a:pt x="14895" y="13442"/>
                    </a:lnTo>
                    <a:close/>
                    <a:moveTo>
                      <a:pt x="18195" y="13442"/>
                    </a:moveTo>
                    <a:lnTo>
                      <a:pt x="19838" y="13442"/>
                    </a:lnTo>
                    <a:lnTo>
                      <a:pt x="19838" y="15257"/>
                    </a:lnTo>
                    <a:lnTo>
                      <a:pt x="18195" y="15257"/>
                    </a:lnTo>
                    <a:lnTo>
                      <a:pt x="18195" y="13442"/>
                    </a:lnTo>
                    <a:close/>
                    <a:moveTo>
                      <a:pt x="1698" y="17275"/>
                    </a:moveTo>
                    <a:lnTo>
                      <a:pt x="3341" y="17275"/>
                    </a:lnTo>
                    <a:lnTo>
                      <a:pt x="3341" y="19091"/>
                    </a:lnTo>
                    <a:lnTo>
                      <a:pt x="1698" y="19091"/>
                    </a:lnTo>
                    <a:lnTo>
                      <a:pt x="1698" y="17275"/>
                    </a:lnTo>
                    <a:close/>
                    <a:moveTo>
                      <a:pt x="4997" y="17275"/>
                    </a:moveTo>
                    <a:lnTo>
                      <a:pt x="6641" y="17275"/>
                    </a:lnTo>
                    <a:lnTo>
                      <a:pt x="6641" y="19091"/>
                    </a:lnTo>
                    <a:lnTo>
                      <a:pt x="4997" y="19091"/>
                    </a:lnTo>
                    <a:lnTo>
                      <a:pt x="4997" y="17275"/>
                    </a:lnTo>
                    <a:close/>
                    <a:moveTo>
                      <a:pt x="14895" y="17275"/>
                    </a:moveTo>
                    <a:lnTo>
                      <a:pt x="16538" y="17275"/>
                    </a:lnTo>
                    <a:lnTo>
                      <a:pt x="16538" y="19091"/>
                    </a:lnTo>
                    <a:lnTo>
                      <a:pt x="14895" y="19091"/>
                    </a:lnTo>
                    <a:lnTo>
                      <a:pt x="14895" y="17275"/>
                    </a:lnTo>
                    <a:close/>
                    <a:moveTo>
                      <a:pt x="18195" y="17275"/>
                    </a:moveTo>
                    <a:lnTo>
                      <a:pt x="19838" y="17275"/>
                    </a:lnTo>
                    <a:lnTo>
                      <a:pt x="19838" y="19091"/>
                    </a:lnTo>
                    <a:lnTo>
                      <a:pt x="18195" y="19091"/>
                    </a:lnTo>
                    <a:lnTo>
                      <a:pt x="18195" y="17275"/>
                    </a:lnTo>
                    <a:close/>
                  </a:path>
                </a:pathLst>
              </a:custGeom>
              <a:solidFill>
                <a:srgbClr val="929292"/>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380" name="Court Building"/>
              <p:cNvSpPr/>
              <p:nvPr/>
            </p:nvSpPr>
            <p:spPr>
              <a:xfrm>
                <a:off x="3438720" y="1078920"/>
                <a:ext cx="207720" cy="206280"/>
              </a:xfrm>
              <a:custGeom>
                <a:avLst/>
                <a:gdLst/>
                <a:ahLst/>
                <a:rect l="l" t="t" r="r" b="b"/>
                <a:pathLst>
                  <a:path w="21600" h="21600">
                    <a:moveTo>
                      <a:pt x="10800" y="0"/>
                    </a:moveTo>
                    <a:lnTo>
                      <a:pt x="1158" y="3613"/>
                    </a:lnTo>
                    <a:lnTo>
                      <a:pt x="1158" y="4293"/>
                    </a:lnTo>
                    <a:lnTo>
                      <a:pt x="20444" y="4293"/>
                    </a:lnTo>
                    <a:lnTo>
                      <a:pt x="20444" y="3613"/>
                    </a:lnTo>
                    <a:lnTo>
                      <a:pt x="10800" y="0"/>
                    </a:lnTo>
                    <a:close/>
                    <a:moveTo>
                      <a:pt x="2354" y="4683"/>
                    </a:moveTo>
                    <a:lnTo>
                      <a:pt x="2354" y="6036"/>
                    </a:lnTo>
                    <a:lnTo>
                      <a:pt x="3269" y="6036"/>
                    </a:lnTo>
                    <a:lnTo>
                      <a:pt x="3269" y="6676"/>
                    </a:lnTo>
                    <a:cubicBezTo>
                      <a:pt x="3553" y="6676"/>
                      <a:pt x="3618" y="7023"/>
                      <a:pt x="3618" y="7023"/>
                    </a:cubicBezTo>
                    <a:lnTo>
                      <a:pt x="3618" y="15657"/>
                    </a:lnTo>
                    <a:lnTo>
                      <a:pt x="3346" y="15657"/>
                    </a:lnTo>
                    <a:lnTo>
                      <a:pt x="3346" y="16762"/>
                    </a:lnTo>
                    <a:lnTo>
                      <a:pt x="2354" y="16762"/>
                    </a:lnTo>
                    <a:lnTo>
                      <a:pt x="2354" y="18115"/>
                    </a:lnTo>
                    <a:lnTo>
                      <a:pt x="19246" y="18115"/>
                    </a:lnTo>
                    <a:lnTo>
                      <a:pt x="19246" y="16762"/>
                    </a:lnTo>
                    <a:lnTo>
                      <a:pt x="18254" y="16762"/>
                    </a:lnTo>
                    <a:lnTo>
                      <a:pt x="18254" y="15657"/>
                    </a:lnTo>
                    <a:lnTo>
                      <a:pt x="17984" y="15657"/>
                    </a:lnTo>
                    <a:lnTo>
                      <a:pt x="17984" y="7023"/>
                    </a:lnTo>
                    <a:cubicBezTo>
                      <a:pt x="17984" y="7023"/>
                      <a:pt x="18049" y="6676"/>
                      <a:pt x="18333" y="6676"/>
                    </a:cubicBezTo>
                    <a:lnTo>
                      <a:pt x="18333" y="6036"/>
                    </a:lnTo>
                    <a:lnTo>
                      <a:pt x="19246" y="6036"/>
                    </a:lnTo>
                    <a:lnTo>
                      <a:pt x="19246" y="4683"/>
                    </a:lnTo>
                    <a:lnTo>
                      <a:pt x="2354" y="4683"/>
                    </a:lnTo>
                    <a:close/>
                    <a:moveTo>
                      <a:pt x="5670" y="6036"/>
                    </a:moveTo>
                    <a:lnTo>
                      <a:pt x="7489" y="6036"/>
                    </a:lnTo>
                    <a:lnTo>
                      <a:pt x="7489" y="6676"/>
                    </a:lnTo>
                    <a:cubicBezTo>
                      <a:pt x="7773" y="6676"/>
                      <a:pt x="7838" y="7023"/>
                      <a:pt x="7838" y="7023"/>
                    </a:cubicBezTo>
                    <a:lnTo>
                      <a:pt x="7838" y="15657"/>
                    </a:lnTo>
                    <a:lnTo>
                      <a:pt x="7568" y="15657"/>
                    </a:lnTo>
                    <a:lnTo>
                      <a:pt x="7568" y="16762"/>
                    </a:lnTo>
                    <a:lnTo>
                      <a:pt x="5591" y="16762"/>
                    </a:lnTo>
                    <a:lnTo>
                      <a:pt x="5591" y="15657"/>
                    </a:lnTo>
                    <a:lnTo>
                      <a:pt x="5321" y="15657"/>
                    </a:lnTo>
                    <a:lnTo>
                      <a:pt x="5321" y="7023"/>
                    </a:lnTo>
                    <a:cubicBezTo>
                      <a:pt x="5321" y="7023"/>
                      <a:pt x="5386" y="6676"/>
                      <a:pt x="5670" y="6676"/>
                    </a:cubicBezTo>
                    <a:lnTo>
                      <a:pt x="5670" y="6036"/>
                    </a:lnTo>
                    <a:close/>
                    <a:moveTo>
                      <a:pt x="9890" y="6036"/>
                    </a:moveTo>
                    <a:lnTo>
                      <a:pt x="11710" y="6036"/>
                    </a:lnTo>
                    <a:lnTo>
                      <a:pt x="11710" y="6676"/>
                    </a:lnTo>
                    <a:cubicBezTo>
                      <a:pt x="11993" y="6676"/>
                      <a:pt x="12059" y="7023"/>
                      <a:pt x="12059" y="7023"/>
                    </a:cubicBezTo>
                    <a:lnTo>
                      <a:pt x="12059" y="15657"/>
                    </a:lnTo>
                    <a:lnTo>
                      <a:pt x="11789" y="15657"/>
                    </a:lnTo>
                    <a:lnTo>
                      <a:pt x="11789" y="16762"/>
                    </a:lnTo>
                    <a:lnTo>
                      <a:pt x="9813" y="16762"/>
                    </a:lnTo>
                    <a:lnTo>
                      <a:pt x="9813" y="15657"/>
                    </a:lnTo>
                    <a:lnTo>
                      <a:pt x="9541" y="15657"/>
                    </a:lnTo>
                    <a:lnTo>
                      <a:pt x="9541" y="7023"/>
                    </a:lnTo>
                    <a:cubicBezTo>
                      <a:pt x="9541" y="7023"/>
                      <a:pt x="9607" y="6676"/>
                      <a:pt x="9890" y="6676"/>
                    </a:cubicBezTo>
                    <a:lnTo>
                      <a:pt x="9890" y="6036"/>
                    </a:lnTo>
                    <a:close/>
                    <a:moveTo>
                      <a:pt x="14113" y="6036"/>
                    </a:moveTo>
                    <a:lnTo>
                      <a:pt x="15932" y="6036"/>
                    </a:lnTo>
                    <a:lnTo>
                      <a:pt x="15932" y="6676"/>
                    </a:lnTo>
                    <a:cubicBezTo>
                      <a:pt x="16216" y="6676"/>
                      <a:pt x="16281" y="7023"/>
                      <a:pt x="16281" y="7023"/>
                    </a:cubicBezTo>
                    <a:lnTo>
                      <a:pt x="16281" y="15657"/>
                    </a:lnTo>
                    <a:lnTo>
                      <a:pt x="16009" y="15657"/>
                    </a:lnTo>
                    <a:lnTo>
                      <a:pt x="16009" y="16762"/>
                    </a:lnTo>
                    <a:lnTo>
                      <a:pt x="14033" y="16762"/>
                    </a:lnTo>
                    <a:lnTo>
                      <a:pt x="14033" y="15657"/>
                    </a:lnTo>
                    <a:lnTo>
                      <a:pt x="13763" y="15657"/>
                    </a:lnTo>
                    <a:lnTo>
                      <a:pt x="13763" y="7023"/>
                    </a:lnTo>
                    <a:cubicBezTo>
                      <a:pt x="13763" y="7023"/>
                      <a:pt x="13829" y="6676"/>
                      <a:pt x="14113" y="6676"/>
                    </a:cubicBezTo>
                    <a:lnTo>
                      <a:pt x="14113" y="6036"/>
                    </a:lnTo>
                    <a:close/>
                    <a:moveTo>
                      <a:pt x="1158" y="18505"/>
                    </a:moveTo>
                    <a:lnTo>
                      <a:pt x="1158" y="19859"/>
                    </a:lnTo>
                    <a:lnTo>
                      <a:pt x="20444" y="19859"/>
                    </a:lnTo>
                    <a:lnTo>
                      <a:pt x="20444" y="18505"/>
                    </a:lnTo>
                    <a:lnTo>
                      <a:pt x="1158" y="18505"/>
                    </a:lnTo>
                    <a:close/>
                    <a:moveTo>
                      <a:pt x="0" y="20247"/>
                    </a:moveTo>
                    <a:lnTo>
                      <a:pt x="0" y="21600"/>
                    </a:lnTo>
                    <a:lnTo>
                      <a:pt x="21600" y="21600"/>
                    </a:lnTo>
                    <a:lnTo>
                      <a:pt x="21600" y="20247"/>
                    </a:lnTo>
                    <a:lnTo>
                      <a:pt x="0" y="20247"/>
                    </a:lnTo>
                    <a:close/>
                  </a:path>
                </a:pathLst>
              </a:custGeom>
              <a:solidFill>
                <a:srgbClr val="929292"/>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381" name="Hotel"/>
              <p:cNvSpPr/>
              <p:nvPr/>
            </p:nvSpPr>
            <p:spPr>
              <a:xfrm>
                <a:off x="3178080" y="1034640"/>
                <a:ext cx="207720" cy="250560"/>
              </a:xfrm>
              <a:custGeom>
                <a:avLst/>
                <a:gdLst/>
                <a:ahLst/>
                <a:rect l="l" t="t" r="r" b="b"/>
                <a:pathLst>
                  <a:path w="21600" h="21600">
                    <a:moveTo>
                      <a:pt x="3845" y="0"/>
                    </a:moveTo>
                    <a:lnTo>
                      <a:pt x="3845" y="21600"/>
                    </a:lnTo>
                    <a:lnTo>
                      <a:pt x="9622" y="21600"/>
                    </a:lnTo>
                    <a:lnTo>
                      <a:pt x="9622" y="17888"/>
                    </a:lnTo>
                    <a:lnTo>
                      <a:pt x="11892" y="17888"/>
                    </a:lnTo>
                    <a:lnTo>
                      <a:pt x="11892" y="21600"/>
                    </a:lnTo>
                    <a:lnTo>
                      <a:pt x="13548" y="21600"/>
                    </a:lnTo>
                    <a:lnTo>
                      <a:pt x="13548" y="17888"/>
                    </a:lnTo>
                    <a:lnTo>
                      <a:pt x="15817" y="17888"/>
                    </a:lnTo>
                    <a:lnTo>
                      <a:pt x="15817" y="21600"/>
                    </a:lnTo>
                    <a:lnTo>
                      <a:pt x="21600" y="21600"/>
                    </a:lnTo>
                    <a:lnTo>
                      <a:pt x="21600" y="0"/>
                    </a:lnTo>
                    <a:lnTo>
                      <a:pt x="3845" y="0"/>
                    </a:lnTo>
                    <a:close/>
                    <a:moveTo>
                      <a:pt x="0" y="1697"/>
                    </a:moveTo>
                    <a:lnTo>
                      <a:pt x="0" y="11543"/>
                    </a:lnTo>
                    <a:lnTo>
                      <a:pt x="2976" y="11543"/>
                    </a:lnTo>
                    <a:lnTo>
                      <a:pt x="2976" y="1697"/>
                    </a:lnTo>
                    <a:lnTo>
                      <a:pt x="0" y="1697"/>
                    </a:lnTo>
                    <a:close/>
                    <a:moveTo>
                      <a:pt x="5704" y="1707"/>
                    </a:moveTo>
                    <a:lnTo>
                      <a:pt x="7975" y="1707"/>
                    </a:lnTo>
                    <a:lnTo>
                      <a:pt x="7975" y="3582"/>
                    </a:lnTo>
                    <a:lnTo>
                      <a:pt x="5704" y="3582"/>
                    </a:lnTo>
                    <a:lnTo>
                      <a:pt x="5704" y="1707"/>
                    </a:lnTo>
                    <a:close/>
                    <a:moveTo>
                      <a:pt x="9622" y="1707"/>
                    </a:moveTo>
                    <a:lnTo>
                      <a:pt x="11892" y="1707"/>
                    </a:lnTo>
                    <a:lnTo>
                      <a:pt x="11892" y="3582"/>
                    </a:lnTo>
                    <a:lnTo>
                      <a:pt x="9622" y="3582"/>
                    </a:lnTo>
                    <a:lnTo>
                      <a:pt x="9622" y="1707"/>
                    </a:lnTo>
                    <a:close/>
                    <a:moveTo>
                      <a:pt x="13548" y="1707"/>
                    </a:moveTo>
                    <a:lnTo>
                      <a:pt x="15817" y="1707"/>
                    </a:lnTo>
                    <a:lnTo>
                      <a:pt x="15817" y="3582"/>
                    </a:lnTo>
                    <a:lnTo>
                      <a:pt x="13548" y="3582"/>
                    </a:lnTo>
                    <a:lnTo>
                      <a:pt x="13548" y="1707"/>
                    </a:lnTo>
                    <a:close/>
                    <a:moveTo>
                      <a:pt x="17473" y="1707"/>
                    </a:moveTo>
                    <a:lnTo>
                      <a:pt x="19742" y="1707"/>
                    </a:lnTo>
                    <a:lnTo>
                      <a:pt x="19742" y="3582"/>
                    </a:lnTo>
                    <a:lnTo>
                      <a:pt x="17473" y="3582"/>
                    </a:lnTo>
                    <a:lnTo>
                      <a:pt x="17473" y="1707"/>
                    </a:lnTo>
                    <a:close/>
                    <a:moveTo>
                      <a:pt x="1490" y="2307"/>
                    </a:moveTo>
                    <a:lnTo>
                      <a:pt x="1727" y="2906"/>
                    </a:lnTo>
                    <a:lnTo>
                      <a:pt x="2486" y="2906"/>
                    </a:lnTo>
                    <a:lnTo>
                      <a:pt x="1871" y="3275"/>
                    </a:lnTo>
                    <a:lnTo>
                      <a:pt x="2106" y="3874"/>
                    </a:lnTo>
                    <a:lnTo>
                      <a:pt x="1490" y="3508"/>
                    </a:lnTo>
                    <a:lnTo>
                      <a:pt x="877" y="3874"/>
                    </a:lnTo>
                    <a:lnTo>
                      <a:pt x="1112" y="3275"/>
                    </a:lnTo>
                    <a:lnTo>
                      <a:pt x="497" y="2906"/>
                    </a:lnTo>
                    <a:lnTo>
                      <a:pt x="1255" y="2906"/>
                    </a:lnTo>
                    <a:lnTo>
                      <a:pt x="1490" y="2307"/>
                    </a:lnTo>
                    <a:close/>
                    <a:moveTo>
                      <a:pt x="1490" y="4528"/>
                    </a:moveTo>
                    <a:lnTo>
                      <a:pt x="1727" y="5129"/>
                    </a:lnTo>
                    <a:lnTo>
                      <a:pt x="2486" y="5129"/>
                    </a:lnTo>
                    <a:lnTo>
                      <a:pt x="1871" y="5495"/>
                    </a:lnTo>
                    <a:lnTo>
                      <a:pt x="2106" y="6095"/>
                    </a:lnTo>
                    <a:lnTo>
                      <a:pt x="1490" y="5728"/>
                    </a:lnTo>
                    <a:lnTo>
                      <a:pt x="877" y="6095"/>
                    </a:lnTo>
                    <a:lnTo>
                      <a:pt x="1112" y="5495"/>
                    </a:lnTo>
                    <a:lnTo>
                      <a:pt x="497" y="5129"/>
                    </a:lnTo>
                    <a:lnTo>
                      <a:pt x="1255" y="5129"/>
                    </a:lnTo>
                    <a:lnTo>
                      <a:pt x="1490" y="4528"/>
                    </a:lnTo>
                    <a:close/>
                    <a:moveTo>
                      <a:pt x="5704" y="4987"/>
                    </a:moveTo>
                    <a:lnTo>
                      <a:pt x="7975" y="4987"/>
                    </a:lnTo>
                    <a:lnTo>
                      <a:pt x="7975" y="6863"/>
                    </a:lnTo>
                    <a:lnTo>
                      <a:pt x="5704" y="6863"/>
                    </a:lnTo>
                    <a:lnTo>
                      <a:pt x="5704" y="4987"/>
                    </a:lnTo>
                    <a:close/>
                    <a:moveTo>
                      <a:pt x="9622" y="4987"/>
                    </a:moveTo>
                    <a:lnTo>
                      <a:pt x="11892" y="4987"/>
                    </a:lnTo>
                    <a:lnTo>
                      <a:pt x="11892" y="6863"/>
                    </a:lnTo>
                    <a:lnTo>
                      <a:pt x="9622" y="6863"/>
                    </a:lnTo>
                    <a:lnTo>
                      <a:pt x="9622" y="4987"/>
                    </a:lnTo>
                    <a:close/>
                    <a:moveTo>
                      <a:pt x="13548" y="4987"/>
                    </a:moveTo>
                    <a:lnTo>
                      <a:pt x="15817" y="4987"/>
                    </a:lnTo>
                    <a:lnTo>
                      <a:pt x="15817" y="6863"/>
                    </a:lnTo>
                    <a:lnTo>
                      <a:pt x="13548" y="6863"/>
                    </a:lnTo>
                    <a:lnTo>
                      <a:pt x="13548" y="4987"/>
                    </a:lnTo>
                    <a:close/>
                    <a:moveTo>
                      <a:pt x="17473" y="4987"/>
                    </a:moveTo>
                    <a:lnTo>
                      <a:pt x="19742" y="4987"/>
                    </a:lnTo>
                    <a:lnTo>
                      <a:pt x="19742" y="6863"/>
                    </a:lnTo>
                    <a:lnTo>
                      <a:pt x="17473" y="6863"/>
                    </a:lnTo>
                    <a:lnTo>
                      <a:pt x="17473" y="4987"/>
                    </a:lnTo>
                    <a:close/>
                    <a:moveTo>
                      <a:pt x="1490" y="6939"/>
                    </a:moveTo>
                    <a:lnTo>
                      <a:pt x="1727" y="7539"/>
                    </a:lnTo>
                    <a:lnTo>
                      <a:pt x="2486" y="7539"/>
                    </a:lnTo>
                    <a:lnTo>
                      <a:pt x="1871" y="7905"/>
                    </a:lnTo>
                    <a:lnTo>
                      <a:pt x="2106" y="8507"/>
                    </a:lnTo>
                    <a:lnTo>
                      <a:pt x="1490" y="8138"/>
                    </a:lnTo>
                    <a:lnTo>
                      <a:pt x="877" y="8507"/>
                    </a:lnTo>
                    <a:lnTo>
                      <a:pt x="1112" y="7905"/>
                    </a:lnTo>
                    <a:lnTo>
                      <a:pt x="497" y="7539"/>
                    </a:lnTo>
                    <a:lnTo>
                      <a:pt x="1255" y="7539"/>
                    </a:lnTo>
                    <a:lnTo>
                      <a:pt x="1490" y="6939"/>
                    </a:lnTo>
                    <a:close/>
                    <a:moveTo>
                      <a:pt x="5704" y="8274"/>
                    </a:moveTo>
                    <a:lnTo>
                      <a:pt x="7975" y="8274"/>
                    </a:lnTo>
                    <a:lnTo>
                      <a:pt x="7975" y="10148"/>
                    </a:lnTo>
                    <a:lnTo>
                      <a:pt x="5704" y="10148"/>
                    </a:lnTo>
                    <a:lnTo>
                      <a:pt x="5704" y="8274"/>
                    </a:lnTo>
                    <a:close/>
                    <a:moveTo>
                      <a:pt x="9622" y="8274"/>
                    </a:moveTo>
                    <a:lnTo>
                      <a:pt x="11892" y="8274"/>
                    </a:lnTo>
                    <a:lnTo>
                      <a:pt x="11892" y="10148"/>
                    </a:lnTo>
                    <a:lnTo>
                      <a:pt x="9622" y="10148"/>
                    </a:lnTo>
                    <a:lnTo>
                      <a:pt x="9622" y="8274"/>
                    </a:lnTo>
                    <a:close/>
                    <a:moveTo>
                      <a:pt x="13548" y="8274"/>
                    </a:moveTo>
                    <a:lnTo>
                      <a:pt x="15817" y="8274"/>
                    </a:lnTo>
                    <a:lnTo>
                      <a:pt x="15817" y="10148"/>
                    </a:lnTo>
                    <a:lnTo>
                      <a:pt x="13548" y="10148"/>
                    </a:lnTo>
                    <a:lnTo>
                      <a:pt x="13548" y="8274"/>
                    </a:lnTo>
                    <a:close/>
                    <a:moveTo>
                      <a:pt x="17473" y="8274"/>
                    </a:moveTo>
                    <a:lnTo>
                      <a:pt x="19742" y="8274"/>
                    </a:lnTo>
                    <a:lnTo>
                      <a:pt x="19742" y="10148"/>
                    </a:lnTo>
                    <a:lnTo>
                      <a:pt x="17473" y="10148"/>
                    </a:lnTo>
                    <a:lnTo>
                      <a:pt x="17473" y="8274"/>
                    </a:lnTo>
                    <a:close/>
                    <a:moveTo>
                      <a:pt x="1490" y="9224"/>
                    </a:moveTo>
                    <a:lnTo>
                      <a:pt x="1727" y="9824"/>
                    </a:lnTo>
                    <a:lnTo>
                      <a:pt x="2486" y="9824"/>
                    </a:lnTo>
                    <a:lnTo>
                      <a:pt x="1871" y="10192"/>
                    </a:lnTo>
                    <a:lnTo>
                      <a:pt x="2106" y="10792"/>
                    </a:lnTo>
                    <a:lnTo>
                      <a:pt x="1490" y="10425"/>
                    </a:lnTo>
                    <a:lnTo>
                      <a:pt x="877" y="10792"/>
                    </a:lnTo>
                    <a:lnTo>
                      <a:pt x="1112" y="10192"/>
                    </a:lnTo>
                    <a:lnTo>
                      <a:pt x="497" y="9824"/>
                    </a:lnTo>
                    <a:lnTo>
                      <a:pt x="1255" y="9824"/>
                    </a:lnTo>
                    <a:lnTo>
                      <a:pt x="1490" y="9224"/>
                    </a:lnTo>
                    <a:close/>
                    <a:moveTo>
                      <a:pt x="5704" y="11553"/>
                    </a:moveTo>
                    <a:lnTo>
                      <a:pt x="7975" y="11553"/>
                    </a:lnTo>
                    <a:lnTo>
                      <a:pt x="7975" y="13429"/>
                    </a:lnTo>
                    <a:lnTo>
                      <a:pt x="5704" y="13429"/>
                    </a:lnTo>
                    <a:lnTo>
                      <a:pt x="5704" y="11553"/>
                    </a:lnTo>
                    <a:close/>
                    <a:moveTo>
                      <a:pt x="9622" y="11553"/>
                    </a:moveTo>
                    <a:lnTo>
                      <a:pt x="11892" y="11553"/>
                    </a:lnTo>
                    <a:lnTo>
                      <a:pt x="11892" y="13429"/>
                    </a:lnTo>
                    <a:lnTo>
                      <a:pt x="9622" y="13429"/>
                    </a:lnTo>
                    <a:lnTo>
                      <a:pt x="9622" y="11553"/>
                    </a:lnTo>
                    <a:close/>
                    <a:moveTo>
                      <a:pt x="13548" y="11553"/>
                    </a:moveTo>
                    <a:lnTo>
                      <a:pt x="15817" y="11553"/>
                    </a:lnTo>
                    <a:lnTo>
                      <a:pt x="15817" y="13429"/>
                    </a:lnTo>
                    <a:lnTo>
                      <a:pt x="13548" y="13429"/>
                    </a:lnTo>
                    <a:lnTo>
                      <a:pt x="13548" y="11553"/>
                    </a:lnTo>
                    <a:close/>
                    <a:moveTo>
                      <a:pt x="17473" y="11553"/>
                    </a:moveTo>
                    <a:lnTo>
                      <a:pt x="19742" y="11553"/>
                    </a:lnTo>
                    <a:lnTo>
                      <a:pt x="19742" y="13429"/>
                    </a:lnTo>
                    <a:lnTo>
                      <a:pt x="17473" y="13429"/>
                    </a:lnTo>
                    <a:lnTo>
                      <a:pt x="17473" y="11553"/>
                    </a:lnTo>
                    <a:close/>
                    <a:moveTo>
                      <a:pt x="5704" y="14840"/>
                    </a:moveTo>
                    <a:lnTo>
                      <a:pt x="7975" y="14840"/>
                    </a:lnTo>
                    <a:lnTo>
                      <a:pt x="7975" y="16714"/>
                    </a:lnTo>
                    <a:lnTo>
                      <a:pt x="5704" y="16714"/>
                    </a:lnTo>
                    <a:lnTo>
                      <a:pt x="5704" y="14840"/>
                    </a:lnTo>
                    <a:close/>
                    <a:moveTo>
                      <a:pt x="9622" y="14840"/>
                    </a:moveTo>
                    <a:lnTo>
                      <a:pt x="11892" y="14840"/>
                    </a:lnTo>
                    <a:lnTo>
                      <a:pt x="11892" y="16714"/>
                    </a:lnTo>
                    <a:lnTo>
                      <a:pt x="9622" y="16714"/>
                    </a:lnTo>
                    <a:lnTo>
                      <a:pt x="9622" y="14840"/>
                    </a:lnTo>
                    <a:close/>
                    <a:moveTo>
                      <a:pt x="13548" y="14840"/>
                    </a:moveTo>
                    <a:lnTo>
                      <a:pt x="15817" y="14840"/>
                    </a:lnTo>
                    <a:lnTo>
                      <a:pt x="15817" y="16714"/>
                    </a:lnTo>
                    <a:lnTo>
                      <a:pt x="13548" y="16714"/>
                    </a:lnTo>
                    <a:lnTo>
                      <a:pt x="13548" y="14840"/>
                    </a:lnTo>
                    <a:close/>
                    <a:moveTo>
                      <a:pt x="17473" y="14840"/>
                    </a:moveTo>
                    <a:lnTo>
                      <a:pt x="19742" y="14840"/>
                    </a:lnTo>
                    <a:lnTo>
                      <a:pt x="19742" y="16714"/>
                    </a:lnTo>
                    <a:lnTo>
                      <a:pt x="17473" y="16714"/>
                    </a:lnTo>
                    <a:lnTo>
                      <a:pt x="17473" y="14840"/>
                    </a:lnTo>
                    <a:close/>
                  </a:path>
                </a:pathLst>
              </a:custGeom>
              <a:solidFill>
                <a:srgbClr val="929292"/>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382" name="Rectangle"/>
              <p:cNvSpPr/>
              <p:nvPr/>
            </p:nvSpPr>
            <p:spPr>
              <a:xfrm>
                <a:off x="3165480" y="1007640"/>
                <a:ext cx="44280" cy="304560"/>
              </a:xfrm>
              <a:prstGeom prst="rect">
                <a:avLst/>
              </a:prstGeom>
              <a:solidFill>
                <a:srgbClr val="cccccc"/>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83" name="Development of…"/>
            <p:cNvSpPr/>
            <p:nvPr/>
          </p:nvSpPr>
          <p:spPr>
            <a:xfrm>
              <a:off x="634680" y="3086640"/>
              <a:ext cx="1973160" cy="738360"/>
            </a:xfrm>
            <a:prstGeom prst="rect">
              <a:avLst/>
            </a:prstGeom>
            <a:noFill/>
            <a:ln w="0">
              <a:noFill/>
            </a:ln>
          </p:spPr>
          <p:style>
            <a:lnRef idx="0"/>
            <a:fillRef idx="0"/>
            <a:effectRef idx="0"/>
            <a:fontRef idx="minor"/>
          </p:style>
          <p:txBody>
            <a:bodyPr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500" spc="-1" strike="noStrike">
                  <a:solidFill>
                    <a:srgbClr val="000000"/>
                  </a:solidFill>
                  <a:latin typeface="Calibri"/>
                </a:rPr>
                <a:t>De</a:t>
              </a:r>
              <a:r>
                <a:rPr b="0" lang="en-US" sz="1500" spc="-1" strike="noStrike">
                  <a:solidFill>
                    <a:srgbClr val="000000"/>
                  </a:solidFill>
                  <a:latin typeface="Calibri"/>
                </a:rPr>
                <a:t>velopment of </a:t>
              </a:r>
              <a:endParaRPr b="0" lang="en-US" sz="1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consensus recommendations</a:t>
              </a:r>
              <a:endParaRPr b="0" lang="en-US" sz="1500" spc="-1" strike="noStrike">
                <a:solidFill>
                  <a:srgbClr val="000000"/>
                </a:solidFill>
                <a:latin typeface="Calibri"/>
              </a:endParaRPr>
            </a:p>
          </p:txBody>
        </p:sp>
        <p:sp>
          <p:nvSpPr>
            <p:cNvPr id="384" name="Partnership with other  Australian organisations"/>
            <p:cNvSpPr/>
            <p:nvPr/>
          </p:nvSpPr>
          <p:spPr>
            <a:xfrm>
              <a:off x="603000" y="936720"/>
              <a:ext cx="2005200" cy="510120"/>
            </a:xfrm>
            <a:prstGeom prst="rect">
              <a:avLst/>
            </a:prstGeom>
            <a:noFill/>
            <a:ln w="0">
              <a:noFill/>
            </a:ln>
          </p:spPr>
          <p:style>
            <a:lnRef idx="0"/>
            <a:fillRef idx="0"/>
            <a:effectRef idx="0"/>
            <a:fontRef idx="minor"/>
          </p:style>
          <p:txBody>
            <a:bodyPr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Partnership with</a:t>
              </a:r>
              <a:br>
                <a:rPr sz="1500"/>
              </a:br>
              <a:r>
                <a:rPr b="0" lang="en-US" sz="1500" spc="-1" strike="noStrike">
                  <a:solidFill>
                    <a:srgbClr val="000000"/>
                  </a:solidFill>
                  <a:latin typeface="Calibri"/>
                </a:rPr>
                <a:t>Australian organisations</a:t>
              </a:r>
              <a:endParaRPr b="0" lang="en-US" sz="1500" spc="-1" strike="noStrike">
                <a:solidFill>
                  <a:srgbClr val="000000"/>
                </a:solidFill>
                <a:latin typeface="Calibri"/>
              </a:endParaRPr>
            </a:p>
          </p:txBody>
        </p:sp>
        <p:sp>
          <p:nvSpPr>
            <p:cNvPr id="385" name="Assessment of  International  recommendations"/>
            <p:cNvSpPr/>
            <p:nvPr/>
          </p:nvSpPr>
          <p:spPr>
            <a:xfrm>
              <a:off x="634680" y="1886400"/>
              <a:ext cx="1981440" cy="738360"/>
            </a:xfrm>
            <a:prstGeom prst="rect">
              <a:avLst/>
            </a:prstGeom>
            <a:noFill/>
            <a:ln w="0">
              <a:noFill/>
            </a:ln>
          </p:spPr>
          <p:style>
            <a:lnRef idx="0"/>
            <a:fillRef idx="0"/>
            <a:effectRef idx="0"/>
            <a:fontRef idx="minor"/>
          </p:style>
          <p:txBody>
            <a:bodyPr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Assessment of </a:t>
              </a:r>
              <a:br>
                <a:rPr sz="1500"/>
              </a:br>
              <a:r>
                <a:rPr b="0" lang="en-US" sz="1500" spc="-1" strike="noStrike">
                  <a:solidFill>
                    <a:srgbClr val="000000"/>
                  </a:solidFill>
                  <a:latin typeface="Calibri"/>
                </a:rPr>
                <a:t>International  recommendations</a:t>
              </a:r>
              <a:endParaRPr b="0" lang="en-US" sz="1500" spc="-1" strike="noStrike">
                <a:solidFill>
                  <a:srgbClr val="000000"/>
                </a:solidFill>
                <a:latin typeface="Calibri"/>
              </a:endParaRPr>
            </a:p>
          </p:txBody>
        </p:sp>
        <p:pic>
          <p:nvPicPr>
            <p:cNvPr id="386" name="CTIQ_concensus.ai" descr="CTIQ_concensus.ai"/>
            <p:cNvPicPr/>
            <p:nvPr/>
          </p:nvPicPr>
          <p:blipFill>
            <a:blip r:embed="rId2"/>
            <a:stretch/>
          </p:blipFill>
          <p:spPr>
            <a:xfrm>
              <a:off x="2846880" y="2879280"/>
              <a:ext cx="874800" cy="1152360"/>
            </a:xfrm>
            <a:prstGeom prst="rect">
              <a:avLst/>
            </a:prstGeom>
            <a:ln w="0">
              <a:noFill/>
            </a:ln>
          </p:spPr>
        </p:pic>
        <p:sp>
          <p:nvSpPr>
            <p:cNvPr id="387" name="Evidence gathering + Impact measurement"/>
            <p:cNvSpPr/>
            <p:nvPr/>
          </p:nvSpPr>
          <p:spPr>
            <a:xfrm>
              <a:off x="1211040" y="229320"/>
              <a:ext cx="2751480" cy="281880"/>
            </a:xfrm>
            <a:prstGeom prst="rect">
              <a:avLst/>
            </a:prstGeom>
            <a:noFill/>
            <a:ln w="0">
              <a:noFill/>
            </a:ln>
          </p:spPr>
          <p:style>
            <a:lnRef idx="0"/>
            <a:fillRef idx="0"/>
            <a:effectRef idx="0"/>
            <a:fontRef idx="minor"/>
          </p:style>
          <p:txBody>
            <a:bodyPr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500" spc="-1" strike="noStrike">
                  <a:solidFill>
                    <a:srgbClr val="bfbfbf"/>
                  </a:solidFill>
                  <a:latin typeface="Calibri"/>
                </a:rPr>
                <a:t>EVIDENCE GATHERING</a:t>
              </a:r>
              <a:endParaRPr b="0" lang="en-US" sz="1500" spc="-1" strike="noStrike">
                <a:solidFill>
                  <a:srgbClr val="000000"/>
                </a:solidFill>
                <a:latin typeface="Calibri"/>
              </a:endParaRPr>
            </a:p>
          </p:txBody>
        </p:sp>
        <p:sp>
          <p:nvSpPr>
            <p:cNvPr id="388" name="Rectangle 3"/>
            <p:cNvSpPr/>
            <p:nvPr/>
          </p:nvSpPr>
          <p:spPr>
            <a:xfrm>
              <a:off x="411120" y="601560"/>
              <a:ext cx="3672000" cy="3541680"/>
            </a:xfrm>
            <a:prstGeom prst="rect">
              <a:avLst/>
            </a:prstGeom>
            <a:noFill/>
            <a:ln w="9360">
              <a:solidFill>
                <a:srgbClr val="d9d9d9"/>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389" name="Group 5"/>
          <p:cNvGrpSpPr/>
          <p:nvPr/>
        </p:nvGrpSpPr>
        <p:grpSpPr>
          <a:xfrm>
            <a:off x="5842080" y="213480"/>
            <a:ext cx="3840120" cy="3893400"/>
            <a:chOff x="5842080" y="213480"/>
            <a:chExt cx="3840120" cy="3893400"/>
          </a:xfrm>
        </p:grpSpPr>
        <p:pic>
          <p:nvPicPr>
            <p:cNvPr id="390" name="Screen Shot 2018-05-08 at 3.31.44 pm.png" descr="Screen Shot 2018-05-08 at 3.31.44 pm.png"/>
            <p:cNvPicPr/>
            <p:nvPr/>
          </p:nvPicPr>
          <p:blipFill>
            <a:blip r:embed="rId3"/>
            <a:stretch/>
          </p:blipFill>
          <p:spPr>
            <a:xfrm>
              <a:off x="6298920" y="786960"/>
              <a:ext cx="2044440" cy="1303920"/>
            </a:xfrm>
            <a:prstGeom prst="rect">
              <a:avLst/>
            </a:prstGeom>
            <a:ln w="0">
              <a:noFill/>
            </a:ln>
          </p:spPr>
        </p:pic>
        <p:sp>
          <p:nvSpPr>
            <p:cNvPr id="391" name="Implementation of tools and guidelines to…"/>
            <p:cNvSpPr/>
            <p:nvPr/>
          </p:nvSpPr>
          <p:spPr>
            <a:xfrm>
              <a:off x="6337080" y="1919880"/>
              <a:ext cx="2394000" cy="738360"/>
            </a:xfrm>
            <a:prstGeom prst="rect">
              <a:avLst/>
            </a:prstGeom>
            <a:noFill/>
            <a:ln w="0">
              <a:noFill/>
            </a:ln>
          </p:spPr>
          <p:style>
            <a:lnRef idx="0"/>
            <a:fillRef idx="0"/>
            <a:effectRef idx="0"/>
            <a:fontRef idx="minor"/>
          </p:style>
          <p:txBody>
            <a:bodyPr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500" spc="-1" strike="noStrike">
                  <a:solidFill>
                    <a:srgbClr val="000000"/>
                  </a:solidFill>
                  <a:latin typeface="Calibri"/>
                </a:rPr>
                <a:t>Implementation of </a:t>
              </a:r>
              <a:r>
                <a:rPr b="0" lang="en-US" sz="1500" spc="-1" strike="noStrike">
                  <a:solidFill>
                    <a:srgbClr val="000000"/>
                  </a:solidFill>
                  <a:latin typeface="Calibri"/>
                </a:rPr>
                <a:t>tools </a:t>
              </a:r>
              <a:r>
                <a:rPr b="0" lang="en-AU" sz="1500" spc="-1" strike="noStrike">
                  <a:solidFill>
                    <a:srgbClr val="000000"/>
                  </a:solidFill>
                  <a:latin typeface="Calibri"/>
                </a:rPr>
                <a:t>&amp; </a:t>
              </a:r>
              <a:r>
                <a:rPr b="0" lang="en-US" sz="1500" spc="-1" strike="noStrike">
                  <a:solidFill>
                    <a:srgbClr val="000000"/>
                  </a:solidFill>
                  <a:latin typeface="Calibri"/>
                </a:rPr>
                <a:t>guidelines to </a:t>
              </a:r>
              <a:r>
                <a:rPr b="0" lang="en-AU" sz="1500" spc="-1" strike="noStrike">
                  <a:solidFill>
                    <a:srgbClr val="000000"/>
                  </a:solidFill>
                  <a:latin typeface="Calibri"/>
                </a:rPr>
                <a:t> </a:t>
              </a:r>
              <a:r>
                <a:rPr b="0" lang="en-US" sz="1500" spc="-1" strike="noStrike">
                  <a:solidFill>
                    <a:srgbClr val="000000"/>
                  </a:solidFill>
                  <a:latin typeface="Calibri"/>
                </a:rPr>
                <a:t>improve clinical trials</a:t>
              </a:r>
              <a:endParaRPr b="0" lang="en-US" sz="1500" spc="-1" strike="noStrike">
                <a:solidFill>
                  <a:srgbClr val="000000"/>
                </a:solidFill>
                <a:latin typeface="Calibri"/>
              </a:endParaRPr>
            </a:p>
          </p:txBody>
        </p:sp>
        <p:grpSp>
          <p:nvGrpSpPr>
            <p:cNvPr id="392" name="Group 1"/>
            <p:cNvGrpSpPr/>
            <p:nvPr/>
          </p:nvGrpSpPr>
          <p:grpSpPr>
            <a:xfrm>
              <a:off x="6573960" y="2801160"/>
              <a:ext cx="578160" cy="1078560"/>
              <a:chOff x="6573960" y="2801160"/>
              <a:chExt cx="578160" cy="1078560"/>
            </a:xfrm>
          </p:grpSpPr>
          <p:sp>
            <p:nvSpPr>
              <p:cNvPr id="393" name="Arrow 4"/>
              <p:cNvSpPr/>
              <p:nvPr/>
            </p:nvSpPr>
            <p:spPr>
              <a:xfrm rot="10800000">
                <a:off x="6573960" y="2801160"/>
                <a:ext cx="578160" cy="590760"/>
              </a:xfrm>
              <a:custGeom>
                <a:avLst/>
                <a:gdLst/>
                <a:ahLst/>
                <a:rect l="l" t="t" r="r" b="b"/>
                <a:pathLst>
                  <a:path w="21600" h="21600">
                    <a:moveTo>
                      <a:pt x="12228" y="0"/>
                    </a:moveTo>
                    <a:cubicBezTo>
                      <a:pt x="7061" y="0"/>
                      <a:pt x="2855" y="4119"/>
                      <a:pt x="2855" y="9181"/>
                    </a:cubicBezTo>
                    <a:cubicBezTo>
                      <a:pt x="2855" y="9198"/>
                      <a:pt x="2856" y="9214"/>
                      <a:pt x="2857" y="9231"/>
                    </a:cubicBezTo>
                    <a:lnTo>
                      <a:pt x="2855" y="14548"/>
                    </a:lnTo>
                    <a:lnTo>
                      <a:pt x="0" y="14548"/>
                    </a:lnTo>
                    <a:lnTo>
                      <a:pt x="5299" y="21597"/>
                    </a:lnTo>
                    <a:lnTo>
                      <a:pt x="10598" y="14548"/>
                    </a:lnTo>
                    <a:lnTo>
                      <a:pt x="7729" y="14548"/>
                    </a:lnTo>
                    <a:lnTo>
                      <a:pt x="7729" y="9231"/>
                    </a:lnTo>
                    <a:lnTo>
                      <a:pt x="7729" y="9210"/>
                    </a:lnTo>
                    <a:cubicBezTo>
                      <a:pt x="7729" y="9201"/>
                      <a:pt x="7729" y="9191"/>
                      <a:pt x="7729" y="9181"/>
                    </a:cubicBezTo>
                    <a:cubicBezTo>
                      <a:pt x="7729" y="6751"/>
                      <a:pt x="9747" y="4773"/>
                      <a:pt x="12228" y="4773"/>
                    </a:cubicBezTo>
                    <a:lnTo>
                      <a:pt x="12230" y="4773"/>
                    </a:lnTo>
                    <a:cubicBezTo>
                      <a:pt x="14711" y="4774"/>
                      <a:pt x="16728" y="6751"/>
                      <a:pt x="16728" y="9181"/>
                    </a:cubicBezTo>
                    <a:cubicBezTo>
                      <a:pt x="16728" y="9191"/>
                      <a:pt x="16714" y="21600"/>
                      <a:pt x="16714" y="21600"/>
                    </a:cubicBezTo>
                    <a:lnTo>
                      <a:pt x="21591" y="21600"/>
                    </a:lnTo>
                    <a:cubicBezTo>
                      <a:pt x="21591" y="21600"/>
                      <a:pt x="21600" y="9202"/>
                      <a:pt x="21600" y="9181"/>
                    </a:cubicBezTo>
                    <a:cubicBezTo>
                      <a:pt x="21600" y="4144"/>
                      <a:pt x="17438" y="41"/>
                      <a:pt x="12306" y="0"/>
                    </a:cubicBezTo>
                    <a:lnTo>
                      <a:pt x="12230" y="0"/>
                    </a:lnTo>
                    <a:cubicBezTo>
                      <a:pt x="12230" y="0"/>
                      <a:pt x="12229" y="0"/>
                      <a:pt x="12228" y="0"/>
                    </a:cubicBezTo>
                    <a:close/>
                  </a:path>
                </a:pathLst>
              </a:custGeom>
              <a:solidFill>
                <a:srgbClr val="929292"/>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394" name="Scale"/>
              <p:cNvSpPr/>
              <p:nvPr/>
            </p:nvSpPr>
            <p:spPr>
              <a:xfrm>
                <a:off x="6603840" y="3392280"/>
                <a:ext cx="488160" cy="487440"/>
              </a:xfrm>
              <a:custGeom>
                <a:avLst/>
                <a:gdLst/>
                <a:ahLst/>
                <a:rect l="l" t="t" r="r" b="b"/>
                <a:pathLst>
                  <a:path w="21600" h="21600">
                    <a:moveTo>
                      <a:pt x="204" y="0"/>
                    </a:moveTo>
                    <a:cubicBezTo>
                      <a:pt x="91" y="0"/>
                      <a:pt x="0" y="92"/>
                      <a:pt x="0" y="206"/>
                    </a:cubicBezTo>
                    <a:lnTo>
                      <a:pt x="0" y="1070"/>
                    </a:lnTo>
                    <a:cubicBezTo>
                      <a:pt x="0" y="1183"/>
                      <a:pt x="91" y="1274"/>
                      <a:pt x="204" y="1274"/>
                    </a:cubicBezTo>
                    <a:cubicBezTo>
                      <a:pt x="598" y="1274"/>
                      <a:pt x="3707" y="1274"/>
                      <a:pt x="7432" y="1274"/>
                    </a:cubicBezTo>
                    <a:lnTo>
                      <a:pt x="7432" y="3181"/>
                    </a:lnTo>
                    <a:lnTo>
                      <a:pt x="8705" y="3181"/>
                    </a:lnTo>
                    <a:lnTo>
                      <a:pt x="8705" y="1274"/>
                    </a:lnTo>
                    <a:cubicBezTo>
                      <a:pt x="10081" y="1274"/>
                      <a:pt x="11513" y="1274"/>
                      <a:pt x="12895" y="1274"/>
                    </a:cubicBezTo>
                    <a:lnTo>
                      <a:pt x="12895" y="3181"/>
                    </a:lnTo>
                    <a:lnTo>
                      <a:pt x="14168" y="3181"/>
                    </a:lnTo>
                    <a:lnTo>
                      <a:pt x="14168" y="1274"/>
                    </a:lnTo>
                    <a:cubicBezTo>
                      <a:pt x="17941" y="1274"/>
                      <a:pt x="21077" y="1274"/>
                      <a:pt x="21396" y="1274"/>
                    </a:cubicBezTo>
                    <a:cubicBezTo>
                      <a:pt x="21509" y="1274"/>
                      <a:pt x="21600" y="1183"/>
                      <a:pt x="21600" y="1070"/>
                    </a:cubicBezTo>
                    <a:lnTo>
                      <a:pt x="21600" y="206"/>
                    </a:lnTo>
                    <a:cubicBezTo>
                      <a:pt x="21600" y="92"/>
                      <a:pt x="21508" y="0"/>
                      <a:pt x="21389" y="0"/>
                    </a:cubicBezTo>
                    <a:lnTo>
                      <a:pt x="204" y="0"/>
                    </a:lnTo>
                    <a:close/>
                    <a:moveTo>
                      <a:pt x="4922" y="3554"/>
                    </a:moveTo>
                    <a:cubicBezTo>
                      <a:pt x="4630" y="3554"/>
                      <a:pt x="4382" y="3763"/>
                      <a:pt x="4333" y="4055"/>
                    </a:cubicBezTo>
                    <a:lnTo>
                      <a:pt x="2061" y="17923"/>
                    </a:lnTo>
                    <a:cubicBezTo>
                      <a:pt x="2013" y="18215"/>
                      <a:pt x="1868" y="18478"/>
                      <a:pt x="1646" y="18667"/>
                    </a:cubicBezTo>
                    <a:lnTo>
                      <a:pt x="204" y="19916"/>
                    </a:lnTo>
                    <a:cubicBezTo>
                      <a:pt x="80" y="20024"/>
                      <a:pt x="10" y="20174"/>
                      <a:pt x="10" y="20336"/>
                    </a:cubicBezTo>
                    <a:lnTo>
                      <a:pt x="10" y="21600"/>
                    </a:lnTo>
                    <a:lnTo>
                      <a:pt x="21600" y="21600"/>
                    </a:lnTo>
                    <a:lnTo>
                      <a:pt x="21600" y="20341"/>
                    </a:lnTo>
                    <a:cubicBezTo>
                      <a:pt x="21600" y="20179"/>
                      <a:pt x="21530" y="20024"/>
                      <a:pt x="21406" y="19916"/>
                    </a:cubicBezTo>
                    <a:lnTo>
                      <a:pt x="19966" y="18667"/>
                    </a:lnTo>
                    <a:cubicBezTo>
                      <a:pt x="19744" y="18473"/>
                      <a:pt x="19592" y="18209"/>
                      <a:pt x="19549" y="17923"/>
                    </a:cubicBezTo>
                    <a:lnTo>
                      <a:pt x="17277" y="4055"/>
                    </a:lnTo>
                    <a:cubicBezTo>
                      <a:pt x="17228" y="3769"/>
                      <a:pt x="16980" y="3554"/>
                      <a:pt x="16688" y="3554"/>
                    </a:cubicBezTo>
                    <a:lnTo>
                      <a:pt x="4922" y="3554"/>
                    </a:lnTo>
                    <a:close/>
                    <a:moveTo>
                      <a:pt x="10805" y="5692"/>
                    </a:moveTo>
                    <a:cubicBezTo>
                      <a:pt x="14000" y="5692"/>
                      <a:pt x="16585" y="8278"/>
                      <a:pt x="16585" y="11475"/>
                    </a:cubicBezTo>
                    <a:cubicBezTo>
                      <a:pt x="16585" y="14666"/>
                      <a:pt x="13995" y="17258"/>
                      <a:pt x="10805" y="17258"/>
                    </a:cubicBezTo>
                    <a:cubicBezTo>
                      <a:pt x="7615" y="17258"/>
                      <a:pt x="5025" y="14672"/>
                      <a:pt x="5025" y="11475"/>
                    </a:cubicBezTo>
                    <a:cubicBezTo>
                      <a:pt x="5025" y="8284"/>
                      <a:pt x="7610" y="5692"/>
                      <a:pt x="10805" y="5692"/>
                    </a:cubicBezTo>
                    <a:close/>
                    <a:moveTo>
                      <a:pt x="14357" y="7712"/>
                    </a:moveTo>
                    <a:lnTo>
                      <a:pt x="11168" y="10562"/>
                    </a:lnTo>
                    <a:cubicBezTo>
                      <a:pt x="10817" y="10422"/>
                      <a:pt x="10395" y="10492"/>
                      <a:pt x="10108" y="10778"/>
                    </a:cubicBezTo>
                    <a:cubicBezTo>
                      <a:pt x="9725" y="11161"/>
                      <a:pt x="9725" y="11783"/>
                      <a:pt x="10108" y="12167"/>
                    </a:cubicBezTo>
                    <a:cubicBezTo>
                      <a:pt x="10492" y="12550"/>
                      <a:pt x="11113" y="12550"/>
                      <a:pt x="11497" y="12167"/>
                    </a:cubicBezTo>
                    <a:cubicBezTo>
                      <a:pt x="11783" y="11881"/>
                      <a:pt x="11853" y="11464"/>
                      <a:pt x="11713" y="11107"/>
                    </a:cubicBezTo>
                    <a:lnTo>
                      <a:pt x="14561" y="7916"/>
                    </a:lnTo>
                    <a:lnTo>
                      <a:pt x="14357" y="7712"/>
                    </a:lnTo>
                    <a:close/>
                  </a:path>
                </a:pathLst>
              </a:custGeom>
              <a:solidFill>
                <a:srgbClr val="000000"/>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grpSp>
        <p:sp>
          <p:nvSpPr>
            <p:cNvPr id="395" name="Evidence gathering + Impact measurement"/>
            <p:cNvSpPr/>
            <p:nvPr/>
          </p:nvSpPr>
          <p:spPr>
            <a:xfrm>
              <a:off x="7321680" y="3189240"/>
              <a:ext cx="2360520" cy="510120"/>
            </a:xfrm>
            <a:prstGeom prst="rect">
              <a:avLst/>
            </a:prstGeom>
            <a:noFill/>
            <a:ln w="0">
              <a:noFill/>
            </a:ln>
          </p:spPr>
          <p:style>
            <a:lnRef idx="0"/>
            <a:fillRef idx="0"/>
            <a:effectRef idx="0"/>
            <a:fontRef idx="minor"/>
          </p:style>
          <p:txBody>
            <a:bodyPr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Impact </a:t>
              </a:r>
              <a:endParaRPr b="0" lang="en-US" sz="1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measurement</a:t>
              </a:r>
              <a:endParaRPr b="0" lang="en-US" sz="1500" spc="-1" strike="noStrike">
                <a:solidFill>
                  <a:srgbClr val="000000"/>
                </a:solidFill>
                <a:latin typeface="Calibri"/>
              </a:endParaRPr>
            </a:p>
          </p:txBody>
        </p:sp>
        <p:sp>
          <p:nvSpPr>
            <p:cNvPr id="396" name="Rectangle 27"/>
            <p:cNvSpPr/>
            <p:nvPr/>
          </p:nvSpPr>
          <p:spPr>
            <a:xfrm>
              <a:off x="5842080" y="603000"/>
              <a:ext cx="2889360" cy="3503880"/>
            </a:xfrm>
            <a:prstGeom prst="rect">
              <a:avLst/>
            </a:prstGeom>
            <a:noFill/>
            <a:ln w="9360">
              <a:solidFill>
                <a:srgbClr val="d9d9d9"/>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7" name="Evidence gathering + Impact measurement"/>
            <p:cNvSpPr/>
            <p:nvPr/>
          </p:nvSpPr>
          <p:spPr>
            <a:xfrm>
              <a:off x="6157800" y="213480"/>
              <a:ext cx="2751120" cy="281880"/>
            </a:xfrm>
            <a:prstGeom prst="rect">
              <a:avLst/>
            </a:prstGeom>
            <a:noFill/>
            <a:ln w="0">
              <a:noFill/>
            </a:ln>
          </p:spPr>
          <p:style>
            <a:lnRef idx="0"/>
            <a:fillRef idx="0"/>
            <a:effectRef idx="0"/>
            <a:fontRef idx="minor"/>
          </p:style>
          <p:txBody>
            <a:bodyPr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500" spc="-1" strike="noStrike">
                  <a:solidFill>
                    <a:srgbClr val="bfbfbf"/>
                  </a:solidFill>
                  <a:latin typeface="Calibri"/>
                </a:rPr>
                <a:t>IMPLEMENTATION &amp; IMPACT</a:t>
              </a:r>
              <a:endParaRPr b="0" lang="en-US" sz="1500" spc="-1" strike="noStrike">
                <a:solidFill>
                  <a:srgbClr val="000000"/>
                </a:solidFill>
                <a:latin typeface="Calibri"/>
              </a:endParaRPr>
            </a:p>
          </p:txBody>
        </p:sp>
      </p:grpSp>
      <p:sp>
        <p:nvSpPr>
          <p:cNvPr id="398" name="Arrow"/>
          <p:cNvSpPr/>
          <p:nvPr/>
        </p:nvSpPr>
        <p:spPr>
          <a:xfrm>
            <a:off x="3908520" y="1144440"/>
            <a:ext cx="2284200" cy="2286000"/>
          </a:xfrm>
          <a:prstGeom prst="rightArrow">
            <a:avLst>
              <a:gd name="adj1" fmla="val 32000"/>
              <a:gd name="adj2" fmla="val 64000"/>
            </a:avLst>
          </a:prstGeom>
          <a:solidFill>
            <a:srgbClr val="ffc06f"/>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2"/>
          <p:cNvGrpSpPr/>
          <p:nvPr/>
        </p:nvGrpSpPr>
        <p:grpSpPr>
          <a:xfrm>
            <a:off x="1162080" y="3357720"/>
            <a:ext cx="7767720" cy="617040"/>
            <a:chOff x="1162080" y="3357720"/>
            <a:chExt cx="7767720" cy="617040"/>
          </a:xfrm>
        </p:grpSpPr>
        <p:sp>
          <p:nvSpPr>
            <p:cNvPr id="400" name="Arrow"/>
            <p:cNvSpPr/>
            <p:nvPr/>
          </p:nvSpPr>
          <p:spPr>
            <a:xfrm>
              <a:off x="1301760" y="3357720"/>
              <a:ext cx="7628040" cy="476280"/>
            </a:xfrm>
            <a:prstGeom prst="rightArrow">
              <a:avLst>
                <a:gd name="adj1" fmla="val 32000"/>
                <a:gd name="adj2" fmla="val 63989"/>
              </a:avLst>
            </a:prstGeom>
            <a:solidFill>
              <a:srgbClr val="d6d5d5"/>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1" name="Rectangle"/>
            <p:cNvSpPr/>
            <p:nvPr/>
          </p:nvSpPr>
          <p:spPr>
            <a:xfrm>
              <a:off x="2649600" y="3476520"/>
              <a:ext cx="4837320" cy="237960"/>
            </a:xfrm>
            <a:prstGeom prst="rect">
              <a:avLst/>
            </a:prstGeom>
            <a:solidFill>
              <a:srgbClr val="67378b"/>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2" name="2018"/>
            <p:cNvSpPr/>
            <p:nvPr/>
          </p:nvSpPr>
          <p:spPr>
            <a:xfrm>
              <a:off x="1162080" y="3768840"/>
              <a:ext cx="355320" cy="205920"/>
            </a:xfrm>
            <a:prstGeom prst="rect">
              <a:avLst/>
            </a:prstGeom>
            <a:noFill/>
            <a:ln w="0">
              <a:noFill/>
            </a:ln>
          </p:spPr>
          <p:style>
            <a:lnRef idx="0"/>
            <a:fillRef idx="0"/>
            <a:effectRef idx="0"/>
            <a:fontRef idx="minor"/>
          </p:style>
          <p:txBody>
            <a:bodyPr lIns="26640" rIns="26640" tIns="26640" bIns="266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elvetica Neue Thin"/>
                  <a:ea typeface="Helvetica Neue Thin"/>
                </a:rPr>
                <a:t>2018</a:t>
              </a:r>
              <a:endParaRPr b="0" lang="en-US" sz="1000" spc="-1" strike="noStrike">
                <a:solidFill>
                  <a:srgbClr val="000000"/>
                </a:solidFill>
                <a:latin typeface="Calibri"/>
              </a:endParaRPr>
            </a:p>
          </p:txBody>
        </p:sp>
        <p:sp>
          <p:nvSpPr>
            <p:cNvPr id="403" name="2019"/>
            <p:cNvSpPr/>
            <p:nvPr/>
          </p:nvSpPr>
          <p:spPr>
            <a:xfrm>
              <a:off x="4329000" y="3768840"/>
              <a:ext cx="355320" cy="205920"/>
            </a:xfrm>
            <a:prstGeom prst="rect">
              <a:avLst/>
            </a:prstGeom>
            <a:noFill/>
            <a:ln w="0">
              <a:noFill/>
            </a:ln>
          </p:spPr>
          <p:style>
            <a:lnRef idx="0"/>
            <a:fillRef idx="0"/>
            <a:effectRef idx="0"/>
            <a:fontRef idx="minor"/>
          </p:style>
          <p:txBody>
            <a:bodyPr lIns="26640" rIns="26640" tIns="26640" bIns="266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elvetica Neue Thin"/>
                  <a:ea typeface="Helvetica Neue Thin"/>
                </a:rPr>
                <a:t>2019</a:t>
              </a:r>
              <a:endParaRPr b="0" lang="en-US" sz="1000" spc="-1" strike="noStrike">
                <a:solidFill>
                  <a:srgbClr val="000000"/>
                </a:solidFill>
                <a:latin typeface="Calibri"/>
              </a:endParaRPr>
            </a:p>
          </p:txBody>
        </p:sp>
        <p:sp>
          <p:nvSpPr>
            <p:cNvPr id="404" name="2020"/>
            <p:cNvSpPr/>
            <p:nvPr/>
          </p:nvSpPr>
          <p:spPr>
            <a:xfrm>
              <a:off x="7498080" y="3768840"/>
              <a:ext cx="355320" cy="205920"/>
            </a:xfrm>
            <a:prstGeom prst="rect">
              <a:avLst/>
            </a:prstGeom>
            <a:noFill/>
            <a:ln w="0">
              <a:noFill/>
            </a:ln>
          </p:spPr>
          <p:style>
            <a:lnRef idx="0"/>
            <a:fillRef idx="0"/>
            <a:effectRef idx="0"/>
            <a:fontRef idx="minor"/>
          </p:style>
          <p:txBody>
            <a:bodyPr lIns="26640" rIns="26640" tIns="26640" bIns="266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elvetica Neue Thin"/>
                  <a:ea typeface="Helvetica Neue Thin"/>
                </a:rPr>
                <a:t>2020</a:t>
              </a:r>
              <a:endParaRPr b="0" lang="en-US" sz="1000" spc="-1" strike="noStrike">
                <a:solidFill>
                  <a:srgbClr val="000000"/>
                </a:solidFill>
                <a:latin typeface="Calibri"/>
              </a:endParaRPr>
            </a:p>
          </p:txBody>
        </p:sp>
        <p:sp>
          <p:nvSpPr>
            <p:cNvPr id="405" name="6 PILOT PHASE PROJECTS (MTPConnect funded)"/>
            <p:cNvSpPr/>
            <p:nvPr/>
          </p:nvSpPr>
          <p:spPr>
            <a:xfrm>
              <a:off x="3226680" y="3453120"/>
              <a:ext cx="4015440" cy="281880"/>
            </a:xfrm>
            <a:prstGeom prst="rect">
              <a:avLst/>
            </a:prstGeom>
            <a:noFill/>
            <a:ln w="0">
              <a:noFill/>
            </a:ln>
          </p:spPr>
          <p:style>
            <a:lnRef idx="0"/>
            <a:fillRef idx="0"/>
            <a:effectRef idx="0"/>
            <a:fontRef idx="minor"/>
          </p:style>
          <p:txBody>
            <a:bodyPr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libri"/>
                </a:rPr>
                <a:t>6 PILOT PHASE PROJECTS (MTPConnect funded)</a:t>
              </a:r>
              <a:endParaRPr b="0" lang="en-US" sz="1500" spc="-1" strike="noStrike">
                <a:solidFill>
                  <a:srgbClr val="000000"/>
                </a:solidFill>
                <a:latin typeface="Calibri"/>
              </a:endParaRPr>
            </a:p>
          </p:txBody>
        </p:sp>
      </p:grpSp>
      <p:sp>
        <p:nvSpPr>
          <p:cNvPr id="406" name="implementation"/>
          <p:cNvSpPr/>
          <p:nvPr/>
        </p:nvSpPr>
        <p:spPr>
          <a:xfrm>
            <a:off x="6539040" y="312480"/>
            <a:ext cx="1155600" cy="221040"/>
          </a:xfrm>
          <a:prstGeom prst="rect">
            <a:avLst/>
          </a:prstGeom>
          <a:noFill/>
          <a:ln w="0">
            <a:noFill/>
          </a:ln>
        </p:spPr>
        <p:style>
          <a:lnRef idx="0"/>
          <a:fillRef idx="0"/>
          <a:effectRef idx="0"/>
          <a:fontRef idx="minor"/>
        </p:style>
        <p:txBody>
          <a:bodyPr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63a89"/>
                </a:solidFill>
                <a:latin typeface="Calibri"/>
                <a:ea typeface="Calibri"/>
              </a:rPr>
              <a:t> </a:t>
            </a:r>
            <a:r>
              <a:rPr b="0" lang="en-US" sz="1100" spc="-1" strike="noStrike">
                <a:solidFill>
                  <a:srgbClr val="663a89"/>
                </a:solidFill>
                <a:latin typeface="Calibri"/>
                <a:ea typeface="Calibri"/>
              </a:rPr>
              <a:t>implementation</a:t>
            </a:r>
            <a:endParaRPr b="0" lang="en-US" sz="1100" spc="-1" strike="noStrike">
              <a:solidFill>
                <a:srgbClr val="000000"/>
              </a:solidFill>
              <a:latin typeface="Calibri"/>
            </a:endParaRPr>
          </a:p>
        </p:txBody>
      </p:sp>
      <p:pic>
        <p:nvPicPr>
          <p:cNvPr id="407" name="consensus…" descr=""/>
          <p:cNvPicPr/>
          <p:nvPr/>
        </p:nvPicPr>
        <p:blipFill>
          <a:blip r:embed="rId1"/>
          <a:stretch/>
        </p:blipFill>
        <p:spPr>
          <a:xfrm>
            <a:off x="5479920" y="201600"/>
            <a:ext cx="920880" cy="474840"/>
          </a:xfrm>
          <a:prstGeom prst="rect">
            <a:avLst/>
          </a:prstGeom>
          <a:ln w="0">
            <a:noFill/>
          </a:ln>
        </p:spPr>
      </p:pic>
      <p:pic>
        <p:nvPicPr>
          <p:cNvPr id="408" name="planning/scoping" descr=""/>
          <p:cNvPicPr/>
          <p:nvPr/>
        </p:nvPicPr>
        <p:blipFill>
          <a:blip r:embed="rId2"/>
          <a:stretch/>
        </p:blipFill>
        <p:spPr>
          <a:xfrm>
            <a:off x="3597120" y="285840"/>
            <a:ext cx="1146240" cy="304560"/>
          </a:xfrm>
          <a:prstGeom prst="rect">
            <a:avLst/>
          </a:prstGeom>
          <a:ln w="0">
            <a:noFill/>
          </a:ln>
        </p:spPr>
      </p:pic>
      <p:sp>
        <p:nvSpPr>
          <p:cNvPr id="409" name="TextBox 1"/>
          <p:cNvSpPr/>
          <p:nvPr/>
        </p:nvSpPr>
        <p:spPr>
          <a:xfrm>
            <a:off x="3327480" y="4056120"/>
            <a:ext cx="523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1800" spc="-1" strike="noStrike">
                <a:solidFill>
                  <a:srgbClr val="000000"/>
                </a:solidFill>
                <a:latin typeface="Calibri"/>
              </a:rPr>
              <a:t>CT:IQ will focus on making the most impactful changes on the issues identified, prioritised and selected by the Executive and the Steering Committee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10" name="Group 5"/>
          <p:cNvGrpSpPr/>
          <p:nvPr/>
        </p:nvGrpSpPr>
        <p:grpSpPr>
          <a:xfrm>
            <a:off x="316080" y="659160"/>
            <a:ext cx="7176960" cy="2557080"/>
            <a:chOff x="316080" y="659160"/>
            <a:chExt cx="7176960" cy="2557080"/>
          </a:xfrm>
        </p:grpSpPr>
        <p:sp>
          <p:nvSpPr>
            <p:cNvPr id="411" name="Steering committee…"/>
            <p:cNvSpPr/>
            <p:nvPr/>
          </p:nvSpPr>
          <p:spPr>
            <a:xfrm>
              <a:off x="316080" y="2175840"/>
              <a:ext cx="1900080" cy="540360"/>
            </a:xfrm>
            <a:prstGeom prst="rect">
              <a:avLst/>
            </a:prstGeom>
            <a:noFill/>
            <a:ln w="0">
              <a:noFill/>
            </a:ln>
          </p:spPr>
          <p:style>
            <a:lnRef idx="0"/>
            <a:fillRef idx="0"/>
            <a:effectRef idx="0"/>
            <a:fontRef idx="minor"/>
          </p:style>
          <p:txBody>
            <a:bodyPr lIns="26640" rIns="26640" tIns="26640" bIns="2664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29292"/>
                  </a:solidFill>
                  <a:latin typeface="Calibri"/>
                </a:rPr>
                <a:t>Steering committe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29292"/>
                  </a:solidFill>
                  <a:latin typeface="Calibri"/>
                </a:rPr>
                <a:t>chosen</a:t>
              </a:r>
              <a:endParaRPr b="0" lang="en-US" sz="1600" spc="-1" strike="noStrike">
                <a:solidFill>
                  <a:srgbClr val="000000"/>
                </a:solidFill>
                <a:latin typeface="Calibri"/>
              </a:endParaRPr>
            </a:p>
          </p:txBody>
        </p:sp>
        <p:sp>
          <p:nvSpPr>
            <p:cNvPr id="412" name="Circle"/>
            <p:cNvSpPr/>
            <p:nvPr/>
          </p:nvSpPr>
          <p:spPr>
            <a:xfrm>
              <a:off x="3060720" y="2978280"/>
              <a:ext cx="237960" cy="237960"/>
            </a:xfrm>
            <a:prstGeom prst="ellipse">
              <a:avLst/>
            </a:prstGeom>
            <a:solidFill>
              <a:srgbClr val="67378b"/>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Circle"/>
            <p:cNvSpPr/>
            <p:nvPr/>
          </p:nvSpPr>
          <p:spPr>
            <a:xfrm>
              <a:off x="3783240" y="2102040"/>
              <a:ext cx="237960" cy="237960"/>
            </a:xfrm>
            <a:prstGeom prst="ellipse">
              <a:avLst/>
            </a:prstGeom>
            <a:solidFill>
              <a:srgbClr val="67378b"/>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4" name="Circle"/>
            <p:cNvSpPr/>
            <p:nvPr/>
          </p:nvSpPr>
          <p:spPr>
            <a:xfrm>
              <a:off x="3301920" y="2540160"/>
              <a:ext cx="237960" cy="237960"/>
            </a:xfrm>
            <a:prstGeom prst="ellipse">
              <a:avLst/>
            </a:prstGeom>
            <a:solidFill>
              <a:srgbClr val="67378b"/>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5" name="Circle"/>
            <p:cNvSpPr/>
            <p:nvPr/>
          </p:nvSpPr>
          <p:spPr>
            <a:xfrm>
              <a:off x="3543480" y="1663560"/>
              <a:ext cx="237960" cy="237960"/>
            </a:xfrm>
            <a:prstGeom prst="ellipse">
              <a:avLst/>
            </a:prstGeom>
            <a:solidFill>
              <a:srgbClr val="67378b"/>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Circle"/>
            <p:cNvSpPr/>
            <p:nvPr/>
          </p:nvSpPr>
          <p:spPr>
            <a:xfrm>
              <a:off x="2594160" y="1189080"/>
              <a:ext cx="237960" cy="237960"/>
            </a:xfrm>
            <a:prstGeom prst="ellipse">
              <a:avLst/>
            </a:prstGeom>
            <a:solidFill>
              <a:srgbClr val="663a89"/>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Executive committee…"/>
            <p:cNvSpPr/>
            <p:nvPr/>
          </p:nvSpPr>
          <p:spPr>
            <a:xfrm>
              <a:off x="359640" y="659160"/>
              <a:ext cx="1839240" cy="905400"/>
            </a:xfrm>
            <a:prstGeom prst="rect">
              <a:avLst/>
            </a:prstGeom>
            <a:noFill/>
            <a:ln w="0">
              <a:noFill/>
            </a:ln>
          </p:spPr>
          <p:style>
            <a:lnRef idx="0"/>
            <a:fillRef idx="0"/>
            <a:effectRef idx="0"/>
            <a:fontRef idx="minor"/>
          </p:style>
          <p:txBody>
            <a:bodyPr lIns="26640" rIns="26640" tIns="26640" bIns="2664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29292"/>
                  </a:solidFill>
                  <a:latin typeface="Calibri"/>
                </a:rPr>
                <a:t>Executive committe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29292"/>
                  </a:solidFill>
                  <a:latin typeface="Calibri"/>
                </a:rPr>
                <a:t>chosen</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29292"/>
                  </a:solidFill>
                  <a:latin typeface="Calibri"/>
                  <a:ea typeface="Calibri"/>
                </a:rPr>
                <a:t>(in the interest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29292"/>
                  </a:solidFill>
                  <a:latin typeface="Calibri"/>
                  <a:ea typeface="Calibri"/>
                </a:rPr>
                <a:t>of expediency)</a:t>
              </a:r>
              <a:endParaRPr b="0" lang="en-US" sz="1200" spc="-1" strike="noStrike">
                <a:solidFill>
                  <a:srgbClr val="000000"/>
                </a:solidFill>
                <a:latin typeface="Calibri"/>
              </a:endParaRPr>
            </a:p>
          </p:txBody>
        </p:sp>
        <p:sp>
          <p:nvSpPr>
            <p:cNvPr id="418" name="Line"/>
            <p:cNvSpPr/>
            <p:nvPr/>
          </p:nvSpPr>
          <p:spPr>
            <a:xfrm>
              <a:off x="3063960" y="892080"/>
              <a:ext cx="2289240" cy="0"/>
            </a:xfrm>
            <a:prstGeom prst="line">
              <a:avLst/>
            </a:prstGeom>
            <a:ln w="57240">
              <a:solidFill>
                <a:srgbClr val="663a89">
                  <a:alpha val="53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19" name="Line"/>
            <p:cNvSpPr/>
            <p:nvPr/>
          </p:nvSpPr>
          <p:spPr>
            <a:xfrm>
              <a:off x="5326200" y="892080"/>
              <a:ext cx="979200" cy="0"/>
            </a:xfrm>
            <a:prstGeom prst="line">
              <a:avLst/>
            </a:prstGeom>
            <a:ln w="57240">
              <a:solidFill>
                <a:srgbClr val="663a89">
                  <a:alpha val="85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0" name="Line"/>
            <p:cNvSpPr/>
            <p:nvPr/>
          </p:nvSpPr>
          <p:spPr>
            <a:xfrm>
              <a:off x="6355080" y="892080"/>
              <a:ext cx="1137960" cy="0"/>
            </a:xfrm>
            <a:prstGeom prst="line">
              <a:avLst/>
            </a:prstGeom>
            <a:ln w="57240">
              <a:solidFill>
                <a:srgbClr val="663a89"/>
              </a:solidFill>
              <a:miter/>
              <a:tailEnd len="sm" type="triangle" w="med"/>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1" name="Line"/>
            <p:cNvSpPr/>
            <p:nvPr/>
          </p:nvSpPr>
          <p:spPr>
            <a:xfrm>
              <a:off x="3294000" y="3110040"/>
              <a:ext cx="480960" cy="0"/>
            </a:xfrm>
            <a:prstGeom prst="line">
              <a:avLst/>
            </a:prstGeom>
            <a:ln w="57240">
              <a:solidFill>
                <a:srgbClr val="663a89">
                  <a:alpha val="53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2" name="Line"/>
            <p:cNvSpPr/>
            <p:nvPr/>
          </p:nvSpPr>
          <p:spPr>
            <a:xfrm>
              <a:off x="3778200" y="3110040"/>
              <a:ext cx="1839960" cy="0"/>
            </a:xfrm>
            <a:prstGeom prst="line">
              <a:avLst/>
            </a:prstGeom>
            <a:ln w="57240">
              <a:solidFill>
                <a:srgbClr val="663a89">
                  <a:alpha val="85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3" name="Line"/>
            <p:cNvSpPr/>
            <p:nvPr/>
          </p:nvSpPr>
          <p:spPr>
            <a:xfrm>
              <a:off x="5594400" y="3110040"/>
              <a:ext cx="1412640" cy="0"/>
            </a:xfrm>
            <a:prstGeom prst="line">
              <a:avLst/>
            </a:prstGeom>
            <a:ln w="57240">
              <a:solidFill>
                <a:srgbClr val="663a89"/>
              </a:solidFill>
              <a:miter/>
              <a:tailEnd len="sm" type="triangle" w="med"/>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4" name="Line"/>
            <p:cNvSpPr/>
            <p:nvPr/>
          </p:nvSpPr>
          <p:spPr>
            <a:xfrm>
              <a:off x="3783240" y="1779480"/>
              <a:ext cx="1284120" cy="0"/>
            </a:xfrm>
            <a:prstGeom prst="line">
              <a:avLst/>
            </a:prstGeom>
            <a:ln w="57240">
              <a:solidFill>
                <a:srgbClr val="663a89">
                  <a:alpha val="53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5" name="Line"/>
            <p:cNvSpPr/>
            <p:nvPr/>
          </p:nvSpPr>
          <p:spPr>
            <a:xfrm>
              <a:off x="5132520" y="1779480"/>
              <a:ext cx="1366560" cy="0"/>
            </a:xfrm>
            <a:prstGeom prst="line">
              <a:avLst/>
            </a:prstGeom>
            <a:ln w="57240">
              <a:solidFill>
                <a:srgbClr val="663a89">
                  <a:alpha val="85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6" name="Line"/>
            <p:cNvSpPr/>
            <p:nvPr/>
          </p:nvSpPr>
          <p:spPr>
            <a:xfrm>
              <a:off x="6539040" y="1779480"/>
              <a:ext cx="954000" cy="0"/>
            </a:xfrm>
            <a:prstGeom prst="line">
              <a:avLst/>
            </a:prstGeom>
            <a:ln w="57240">
              <a:solidFill>
                <a:srgbClr val="663a89"/>
              </a:solidFill>
              <a:miter/>
              <a:tailEnd len="sm" type="triangle" w="med"/>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7" name="Line"/>
            <p:cNvSpPr/>
            <p:nvPr/>
          </p:nvSpPr>
          <p:spPr>
            <a:xfrm>
              <a:off x="4021200" y="2217960"/>
              <a:ext cx="1095120" cy="0"/>
            </a:xfrm>
            <a:prstGeom prst="line">
              <a:avLst/>
            </a:prstGeom>
            <a:ln w="57240">
              <a:solidFill>
                <a:srgbClr val="663a89">
                  <a:alpha val="53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8" name="Line"/>
            <p:cNvSpPr/>
            <p:nvPr/>
          </p:nvSpPr>
          <p:spPr>
            <a:xfrm>
              <a:off x="5172120" y="2217960"/>
              <a:ext cx="1164960" cy="0"/>
            </a:xfrm>
            <a:prstGeom prst="line">
              <a:avLst/>
            </a:prstGeom>
            <a:ln w="57240">
              <a:solidFill>
                <a:srgbClr val="663a89">
                  <a:alpha val="85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29" name="Line"/>
            <p:cNvSpPr/>
            <p:nvPr/>
          </p:nvSpPr>
          <p:spPr>
            <a:xfrm>
              <a:off x="6370920" y="2217960"/>
              <a:ext cx="814320" cy="0"/>
            </a:xfrm>
            <a:prstGeom prst="line">
              <a:avLst/>
            </a:prstGeom>
            <a:ln w="57240">
              <a:solidFill>
                <a:srgbClr val="663a89"/>
              </a:solidFill>
              <a:miter/>
              <a:tailEnd len="sm" type="triangle" w="med"/>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30" name="Line"/>
            <p:cNvSpPr/>
            <p:nvPr/>
          </p:nvSpPr>
          <p:spPr>
            <a:xfrm>
              <a:off x="3544920" y="2657520"/>
              <a:ext cx="1326960" cy="0"/>
            </a:xfrm>
            <a:prstGeom prst="line">
              <a:avLst/>
            </a:prstGeom>
            <a:ln w="57240">
              <a:solidFill>
                <a:srgbClr val="663a89">
                  <a:alpha val="53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31" name="Line"/>
            <p:cNvSpPr/>
            <p:nvPr/>
          </p:nvSpPr>
          <p:spPr>
            <a:xfrm>
              <a:off x="4940280" y="2657520"/>
              <a:ext cx="1411200" cy="0"/>
            </a:xfrm>
            <a:prstGeom prst="line">
              <a:avLst/>
            </a:prstGeom>
            <a:ln w="57240">
              <a:solidFill>
                <a:srgbClr val="663a89">
                  <a:alpha val="85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32" name="Line"/>
            <p:cNvSpPr/>
            <p:nvPr/>
          </p:nvSpPr>
          <p:spPr>
            <a:xfrm>
              <a:off x="6394680" y="2657520"/>
              <a:ext cx="985680" cy="0"/>
            </a:xfrm>
            <a:prstGeom prst="line">
              <a:avLst/>
            </a:prstGeom>
            <a:ln w="57240">
              <a:solidFill>
                <a:srgbClr val="663a89"/>
              </a:solidFill>
              <a:miter/>
              <a:tailEnd len="sm" type="triangle" w="med"/>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33" name="Line"/>
            <p:cNvSpPr/>
            <p:nvPr/>
          </p:nvSpPr>
          <p:spPr>
            <a:xfrm>
              <a:off x="2832120" y="1307880"/>
              <a:ext cx="480960" cy="0"/>
            </a:xfrm>
            <a:prstGeom prst="line">
              <a:avLst/>
            </a:prstGeom>
            <a:ln w="57240">
              <a:solidFill>
                <a:srgbClr val="663a89">
                  <a:alpha val="53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34" name="Line"/>
            <p:cNvSpPr/>
            <p:nvPr/>
          </p:nvSpPr>
          <p:spPr>
            <a:xfrm>
              <a:off x="3279960" y="1307880"/>
              <a:ext cx="2063520" cy="0"/>
            </a:xfrm>
            <a:prstGeom prst="line">
              <a:avLst/>
            </a:prstGeom>
            <a:ln w="57240">
              <a:solidFill>
                <a:srgbClr val="663a89">
                  <a:alpha val="85000"/>
                </a:srgbClr>
              </a:solidFill>
              <a:miter/>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35" name="Line"/>
            <p:cNvSpPr/>
            <p:nvPr/>
          </p:nvSpPr>
          <p:spPr>
            <a:xfrm>
              <a:off x="5257800" y="1307880"/>
              <a:ext cx="2027160" cy="0"/>
            </a:xfrm>
            <a:prstGeom prst="line">
              <a:avLst/>
            </a:prstGeom>
            <a:ln w="57240">
              <a:solidFill>
                <a:srgbClr val="663a89"/>
              </a:solidFill>
              <a:miter/>
              <a:tailEnd len="sm" type="triangle" w="med"/>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36" name="Circle"/>
            <p:cNvSpPr/>
            <p:nvPr/>
          </p:nvSpPr>
          <p:spPr>
            <a:xfrm>
              <a:off x="2859120" y="772920"/>
              <a:ext cx="237960" cy="237960"/>
            </a:xfrm>
            <a:prstGeom prst="ellipse">
              <a:avLst/>
            </a:prstGeom>
            <a:solidFill>
              <a:srgbClr val="663a89"/>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437" name="Left Brace 7"/>
          <p:cNvSpPr/>
          <p:nvPr/>
        </p:nvSpPr>
        <p:spPr>
          <a:xfrm>
            <a:off x="2313000" y="774720"/>
            <a:ext cx="125280" cy="652320"/>
          </a:xfrm>
          <a:custGeom>
            <a:avLst/>
            <a:gdLst>
              <a:gd name="textAreaLeft" fmla="*/ 79920 w 125280"/>
              <a:gd name="textAreaRight" fmla="*/ 125640 w 125280"/>
              <a:gd name="textAreaTop" fmla="*/ 3240 h 652320"/>
              <a:gd name="textAreaBottom" fmla="*/ 649080 h 652320"/>
            </a:gdLst>
            <a:ahLst/>
            <a:rect l="textAreaLeft" t="textAreaTop" r="textAreaRight" b="textAreaBottom"/>
            <a:pathLst>
              <a:path w="21600" h="21600">
                <a:moveTo>
                  <a:pt x="21600" y="0"/>
                </a:moveTo>
                <a:cubicBezTo>
                  <a:pt x="16200" y="0"/>
                  <a:pt x="10800" y="173"/>
                  <a:pt x="10800" y="346"/>
                </a:cubicBezTo>
                <a:lnTo>
                  <a:pt x="10800" y="10454"/>
                </a:lnTo>
                <a:cubicBezTo>
                  <a:pt x="10800" y="10627"/>
                  <a:pt x="5400" y="10800"/>
                  <a:pt x="0" y="10800"/>
                </a:cubicBezTo>
                <a:cubicBezTo>
                  <a:pt x="5400" y="10800"/>
                  <a:pt x="10800" y="10973"/>
                  <a:pt x="10800" y="11146"/>
                </a:cubicBezTo>
                <a:lnTo>
                  <a:pt x="10800" y="21254"/>
                </a:lnTo>
                <a:cubicBezTo>
                  <a:pt x="10800" y="21427"/>
                  <a:pt x="16200" y="21600"/>
                  <a:pt x="21600" y="21600"/>
                </a:cubicBezTo>
              </a:path>
            </a:pathLst>
          </a:custGeom>
          <a:no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8" name="Left Brace 125"/>
          <p:cNvSpPr/>
          <p:nvPr/>
        </p:nvSpPr>
        <p:spPr>
          <a:xfrm>
            <a:off x="2311560" y="1647720"/>
            <a:ext cx="125280" cy="1549440"/>
          </a:xfrm>
          <a:custGeom>
            <a:avLst/>
            <a:gdLst>
              <a:gd name="textAreaLeft" fmla="*/ 79920 w 125280"/>
              <a:gd name="textAreaRight" fmla="*/ 125640 w 125280"/>
              <a:gd name="textAreaTop" fmla="*/ 3240 h 1549440"/>
              <a:gd name="textAreaBottom" fmla="*/ 1546200 h 154944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CT:IQ WILL…."/>
          <p:cNvSpPr/>
          <p:nvPr/>
        </p:nvSpPr>
        <p:spPr>
          <a:xfrm>
            <a:off x="408240" y="523440"/>
            <a:ext cx="4263480" cy="602280"/>
          </a:xfrm>
          <a:prstGeom prst="rect">
            <a:avLst/>
          </a:prstGeom>
          <a:noFill/>
          <a:ln w="0">
            <a:noFill/>
          </a:ln>
        </p:spPr>
        <p:style>
          <a:lnRef idx="0"/>
          <a:fillRef idx="0"/>
          <a:effectRef idx="0"/>
          <a:fontRef idx="minor"/>
        </p:style>
        <p:txBody>
          <a:bodyPr wrap="none" lIns="26640" rIns="26640" tIns="26640" bIns="26640" anchor="ctr">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3600" spc="-1" strike="noStrike">
                <a:solidFill>
                  <a:srgbClr val="a6a6a6"/>
                </a:solidFill>
                <a:latin typeface="Calibri"/>
                <a:ea typeface="Arial"/>
              </a:rPr>
              <a:t>Possible </a:t>
            </a:r>
            <a:r>
              <a:rPr b="1" i="1" lang="en-US" sz="3600" spc="-1" strike="noStrike">
                <a:solidFill>
                  <a:srgbClr val="a6a6a6"/>
                </a:solidFill>
                <a:latin typeface="Calibri"/>
                <a:ea typeface="Arial"/>
              </a:rPr>
              <a:t>CT:IQ</a:t>
            </a:r>
            <a:r>
              <a:rPr b="1" i="1" lang="en-AU" sz="3600" spc="-1" strike="noStrike">
                <a:solidFill>
                  <a:srgbClr val="a6a6a6"/>
                </a:solidFill>
                <a:latin typeface="Calibri"/>
                <a:ea typeface="Arial"/>
              </a:rPr>
              <a:t> topics…</a:t>
            </a:r>
            <a:endParaRPr b="0" lang="en-US" sz="3600" spc="-1" strike="noStrike">
              <a:solidFill>
                <a:srgbClr val="000000"/>
              </a:solidFill>
              <a:latin typeface="Calibri"/>
            </a:endParaRPr>
          </a:p>
        </p:txBody>
      </p:sp>
      <p:sp>
        <p:nvSpPr>
          <p:cNvPr id="440" name="Measure…"/>
          <p:cNvSpPr/>
          <p:nvPr/>
        </p:nvSpPr>
        <p:spPr>
          <a:xfrm>
            <a:off x="6224760" y="2557440"/>
            <a:ext cx="2168280" cy="64620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Advancing novel trial designs</a:t>
            </a:r>
            <a:endParaRPr b="0" lang="en-US" sz="1400" spc="-1" strike="noStrike">
              <a:solidFill>
                <a:srgbClr val="000000"/>
              </a:solidFill>
              <a:latin typeface="Calibri"/>
            </a:endParaRPr>
          </a:p>
        </p:txBody>
      </p:sp>
      <p:pic>
        <p:nvPicPr>
          <p:cNvPr id="441" name="CTIQ_logosstalksonly.psd" descr="CTIQ_logosstalksonly.psd"/>
          <p:cNvPicPr/>
          <p:nvPr/>
        </p:nvPicPr>
        <p:blipFill>
          <a:blip r:embed="rId1"/>
          <a:stretch/>
        </p:blipFill>
        <p:spPr>
          <a:xfrm>
            <a:off x="3938760" y="1619280"/>
            <a:ext cx="2562120" cy="2149560"/>
          </a:xfrm>
          <a:prstGeom prst="rect">
            <a:avLst/>
          </a:prstGeom>
          <a:ln w="0">
            <a:noFill/>
          </a:ln>
        </p:spPr>
      </p:pic>
      <p:sp>
        <p:nvSpPr>
          <p:cNvPr id="442" name="Measure…"/>
          <p:cNvSpPr/>
          <p:nvPr/>
        </p:nvSpPr>
        <p:spPr>
          <a:xfrm>
            <a:off x="1996920" y="3233880"/>
            <a:ext cx="2870280" cy="64584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Best practices for patient engagement</a:t>
            </a:r>
            <a:endParaRPr b="0" lang="en-US" sz="1400" spc="-1" strike="noStrike">
              <a:solidFill>
                <a:srgbClr val="000000"/>
              </a:solidFill>
              <a:latin typeface="Calibri"/>
            </a:endParaRPr>
          </a:p>
        </p:txBody>
      </p:sp>
      <p:sp>
        <p:nvSpPr>
          <p:cNvPr id="443" name="Measure…"/>
          <p:cNvSpPr/>
          <p:nvPr/>
        </p:nvSpPr>
        <p:spPr>
          <a:xfrm>
            <a:off x="523800" y="2771640"/>
            <a:ext cx="3826080" cy="64620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Trial design for effectiveness and reimbursement</a:t>
            </a:r>
            <a:endParaRPr b="0" lang="en-US" sz="1400" spc="-1" strike="noStrike">
              <a:solidFill>
                <a:srgbClr val="000000"/>
              </a:solidFill>
              <a:latin typeface="Calibri"/>
            </a:endParaRPr>
          </a:p>
        </p:txBody>
      </p:sp>
      <p:sp>
        <p:nvSpPr>
          <p:cNvPr id="444" name="Measure…"/>
          <p:cNvSpPr/>
          <p:nvPr/>
        </p:nvSpPr>
        <p:spPr>
          <a:xfrm>
            <a:off x="701640" y="1711440"/>
            <a:ext cx="4570560" cy="64584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Best practice for Data Safety Monitoring Committees</a:t>
            </a:r>
            <a:endParaRPr b="0" lang="en-US" sz="1400" spc="-1" strike="noStrike">
              <a:solidFill>
                <a:srgbClr val="000000"/>
              </a:solidFill>
              <a:latin typeface="Calibri"/>
            </a:endParaRPr>
          </a:p>
        </p:txBody>
      </p:sp>
      <p:sp>
        <p:nvSpPr>
          <p:cNvPr id="445" name="Measure…"/>
          <p:cNvSpPr/>
          <p:nvPr/>
        </p:nvSpPr>
        <p:spPr>
          <a:xfrm>
            <a:off x="5651640" y="1557360"/>
            <a:ext cx="3441600" cy="64620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Registry-randomised and registry-linked trials</a:t>
            </a:r>
            <a:endParaRPr b="0" lang="en-US" sz="1400" spc="-1" strike="noStrike">
              <a:solidFill>
                <a:srgbClr val="000000"/>
              </a:solidFill>
              <a:latin typeface="Calibri"/>
            </a:endParaRPr>
          </a:p>
        </p:txBody>
      </p:sp>
      <p:sp>
        <p:nvSpPr>
          <p:cNvPr id="446" name="Measure…"/>
          <p:cNvSpPr/>
          <p:nvPr/>
        </p:nvSpPr>
        <p:spPr>
          <a:xfrm>
            <a:off x="6032520" y="2063880"/>
            <a:ext cx="2665440" cy="64584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Real world evidence &amp; trial design</a:t>
            </a:r>
            <a:endParaRPr b="0" lang="en-US" sz="1400" spc="-1" strike="noStrike">
              <a:solidFill>
                <a:srgbClr val="000000"/>
              </a:solidFill>
              <a:latin typeface="Calibri"/>
            </a:endParaRPr>
          </a:p>
        </p:txBody>
      </p:sp>
      <p:sp>
        <p:nvSpPr>
          <p:cNvPr id="447" name="Measure…"/>
          <p:cNvSpPr/>
          <p:nvPr/>
        </p:nvSpPr>
        <p:spPr>
          <a:xfrm>
            <a:off x="5784840" y="3063960"/>
            <a:ext cx="2219400" cy="64620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Teletrials: structures, technologies, conduct issues</a:t>
            </a:r>
            <a:endParaRPr b="0" lang="en-US" sz="1400" spc="-1" strike="noStrike">
              <a:solidFill>
                <a:srgbClr val="000000"/>
              </a:solidFill>
              <a:latin typeface="Calibri"/>
            </a:endParaRPr>
          </a:p>
        </p:txBody>
      </p:sp>
      <p:sp>
        <p:nvSpPr>
          <p:cNvPr id="448" name="Measure…"/>
          <p:cNvSpPr/>
          <p:nvPr/>
        </p:nvSpPr>
        <p:spPr>
          <a:xfrm>
            <a:off x="4556160" y="3768840"/>
            <a:ext cx="2168640" cy="64584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Repurposing of new drugs</a:t>
            </a:r>
            <a:endParaRPr b="0" lang="en-US" sz="1400" spc="-1" strike="noStrike">
              <a:solidFill>
                <a:srgbClr val="000000"/>
              </a:solidFill>
              <a:latin typeface="Calibri"/>
            </a:endParaRPr>
          </a:p>
        </p:txBody>
      </p:sp>
      <p:sp>
        <p:nvSpPr>
          <p:cNvPr id="449" name="Measure…"/>
          <p:cNvSpPr/>
          <p:nvPr/>
        </p:nvSpPr>
        <p:spPr>
          <a:xfrm>
            <a:off x="1046160" y="2173320"/>
            <a:ext cx="3513240" cy="646200"/>
          </a:xfrm>
          <a:prstGeom prst="rect">
            <a:avLst/>
          </a:prstGeom>
          <a:no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Best practices for GP pathways to clinical trials</a:t>
            </a:r>
            <a:endParaRPr b="0" lang="en-US" sz="1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p:cNvGrpSpPr/>
          <p:nvPr/>
        </p:nvGrpSpPr>
        <p:grpSpPr>
          <a:xfrm>
            <a:off x="109440" y="-5259240"/>
            <a:ext cx="10080720" cy="10051920"/>
            <a:chOff x="109440" y="-5259240"/>
            <a:chExt cx="10080720" cy="10051920"/>
          </a:xfrm>
        </p:grpSpPr>
        <p:grpSp>
          <p:nvGrpSpPr>
            <p:cNvPr id="451" name="Group"/>
            <p:cNvGrpSpPr/>
            <p:nvPr/>
          </p:nvGrpSpPr>
          <p:grpSpPr>
            <a:xfrm>
              <a:off x="356760" y="342000"/>
              <a:ext cx="8496000" cy="3593880"/>
              <a:chOff x="356760" y="342000"/>
              <a:chExt cx="8496000" cy="3593880"/>
            </a:xfrm>
          </p:grpSpPr>
          <p:sp>
            <p:nvSpPr>
              <p:cNvPr id="452" name="Rectangle"/>
              <p:cNvSpPr/>
              <p:nvPr/>
            </p:nvSpPr>
            <p:spPr>
              <a:xfrm>
                <a:off x="356760" y="3012120"/>
                <a:ext cx="8496000" cy="923760"/>
              </a:xfrm>
              <a:prstGeom prst="rect">
                <a:avLst/>
              </a:prstGeom>
              <a:solidFill>
                <a:srgbClr val="f3f3f3"/>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3" name="Rectangle"/>
              <p:cNvSpPr/>
              <p:nvPr/>
            </p:nvSpPr>
            <p:spPr>
              <a:xfrm>
                <a:off x="356760" y="2121480"/>
                <a:ext cx="8496000" cy="865080"/>
              </a:xfrm>
              <a:prstGeom prst="rect">
                <a:avLst/>
              </a:prstGeom>
              <a:solidFill>
                <a:srgbClr val="f3f3f3"/>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Rectangle"/>
              <p:cNvSpPr/>
              <p:nvPr/>
            </p:nvSpPr>
            <p:spPr>
              <a:xfrm>
                <a:off x="356760" y="1232280"/>
                <a:ext cx="8496000" cy="863280"/>
              </a:xfrm>
              <a:prstGeom prst="rect">
                <a:avLst/>
              </a:prstGeom>
              <a:solidFill>
                <a:srgbClr val="f3f3f3"/>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5" name="Rectangle"/>
              <p:cNvSpPr/>
              <p:nvPr/>
            </p:nvSpPr>
            <p:spPr>
              <a:xfrm>
                <a:off x="356760" y="342000"/>
                <a:ext cx="8496000" cy="863280"/>
              </a:xfrm>
              <a:prstGeom prst="rect">
                <a:avLst/>
              </a:prstGeom>
              <a:solidFill>
                <a:srgbClr val="f3f3f3"/>
              </a:solidFill>
              <a:ln w="0">
                <a:noFill/>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456" name="Triangle"/>
            <p:cNvSpPr/>
            <p:nvPr/>
          </p:nvSpPr>
          <p:spPr>
            <a:xfrm rot="10800000">
              <a:off x="2153520" y="428760"/>
              <a:ext cx="5281560" cy="4363920"/>
            </a:xfrm>
            <a:custGeom>
              <a:avLst/>
              <a:gdLst/>
              <a:ahLst/>
              <a:rect l="l" t="t" r="r" b="b"/>
              <a:pathLst>
                <a:path w="21600" h="21600">
                  <a:moveTo>
                    <a:pt x="10800" y="0"/>
                  </a:moveTo>
                  <a:lnTo>
                    <a:pt x="21600" y="21600"/>
                  </a:lnTo>
                  <a:lnTo>
                    <a:pt x="0" y="21600"/>
                  </a:lnTo>
                  <a:lnTo>
                    <a:pt x="10800" y="0"/>
                  </a:lnTo>
                  <a:close/>
                </a:path>
              </a:pathLst>
            </a:custGeom>
            <a:solidFill>
              <a:srgbClr val="debcfc"/>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grpSp>
          <p:nvGrpSpPr>
            <p:cNvPr id="457" name="Group"/>
            <p:cNvGrpSpPr/>
            <p:nvPr/>
          </p:nvGrpSpPr>
          <p:grpSpPr>
            <a:xfrm>
              <a:off x="109440" y="371520"/>
              <a:ext cx="10080720" cy="3534840"/>
              <a:chOff x="109440" y="371520"/>
              <a:chExt cx="10080720" cy="3534840"/>
            </a:xfrm>
          </p:grpSpPr>
          <p:sp>
            <p:nvSpPr>
              <p:cNvPr id="458" name="Rectangle"/>
              <p:cNvSpPr/>
              <p:nvPr/>
            </p:nvSpPr>
            <p:spPr>
              <a:xfrm>
                <a:off x="109440" y="3041280"/>
                <a:ext cx="10080720" cy="865080"/>
              </a:xfrm>
              <a:prstGeom prst="rect">
                <a:avLst/>
              </a:prstGeom>
              <a:noFill/>
              <a:ln w="127080">
                <a:solidFill>
                  <a:srgbClr val="ffffff"/>
                </a:solidFill>
                <a:miter/>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9" name="Rectangle"/>
              <p:cNvSpPr/>
              <p:nvPr/>
            </p:nvSpPr>
            <p:spPr>
              <a:xfrm>
                <a:off x="109440" y="2152440"/>
                <a:ext cx="10080720" cy="863280"/>
              </a:xfrm>
              <a:prstGeom prst="rect">
                <a:avLst/>
              </a:prstGeom>
              <a:noFill/>
              <a:ln w="127080">
                <a:solidFill>
                  <a:srgbClr val="ffffff"/>
                </a:solidFill>
                <a:miter/>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0" name="Rectangle"/>
              <p:cNvSpPr/>
              <p:nvPr/>
            </p:nvSpPr>
            <p:spPr>
              <a:xfrm>
                <a:off x="109440" y="1261800"/>
                <a:ext cx="10080720" cy="863280"/>
              </a:xfrm>
              <a:prstGeom prst="rect">
                <a:avLst/>
              </a:prstGeom>
              <a:noFill/>
              <a:ln w="127080">
                <a:solidFill>
                  <a:srgbClr val="ffffff"/>
                </a:solidFill>
                <a:miter/>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p:cNvSpPr/>
              <p:nvPr/>
            </p:nvSpPr>
            <p:spPr>
              <a:xfrm>
                <a:off x="109440" y="371520"/>
                <a:ext cx="10080720" cy="865080"/>
              </a:xfrm>
              <a:prstGeom prst="rect">
                <a:avLst/>
              </a:prstGeom>
              <a:noFill/>
              <a:ln w="127080">
                <a:solidFill>
                  <a:srgbClr val="ffffff"/>
                </a:solidFill>
                <a:miter/>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462" name="Group"/>
            <p:cNvGrpSpPr/>
            <p:nvPr/>
          </p:nvGrpSpPr>
          <p:grpSpPr>
            <a:xfrm>
              <a:off x="3012840" y="-5259240"/>
              <a:ext cx="3535200" cy="6497640"/>
              <a:chOff x="3012840" y="-5259240"/>
              <a:chExt cx="3535200" cy="6497640"/>
            </a:xfrm>
          </p:grpSpPr>
          <p:sp>
            <p:nvSpPr>
              <p:cNvPr id="463" name="Rectangle"/>
              <p:cNvSpPr/>
              <p:nvPr/>
            </p:nvSpPr>
            <p:spPr>
              <a:xfrm rot="16200000">
                <a:off x="2866680" y="-2442960"/>
                <a:ext cx="6497640" cy="865080"/>
              </a:xfrm>
              <a:prstGeom prst="rect">
                <a:avLst/>
              </a:prstGeom>
              <a:noFill/>
              <a:ln w="127080">
                <a:solidFill>
                  <a:srgbClr val="ffffff"/>
                </a:solidFill>
                <a:miter/>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4" name="Rectangle"/>
              <p:cNvSpPr/>
              <p:nvPr/>
            </p:nvSpPr>
            <p:spPr>
              <a:xfrm rot="16200000">
                <a:off x="1976760" y="-2441880"/>
                <a:ext cx="6497640" cy="863280"/>
              </a:xfrm>
              <a:prstGeom prst="rect">
                <a:avLst/>
              </a:prstGeom>
              <a:noFill/>
              <a:ln w="127080">
                <a:solidFill>
                  <a:srgbClr val="ffffff"/>
                </a:solidFill>
                <a:miter/>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p:cNvSpPr/>
              <p:nvPr/>
            </p:nvSpPr>
            <p:spPr>
              <a:xfrm rot="16200000">
                <a:off x="1086120" y="-2441880"/>
                <a:ext cx="6497640" cy="863280"/>
              </a:xfrm>
              <a:prstGeom prst="rect">
                <a:avLst/>
              </a:prstGeom>
              <a:noFill/>
              <a:ln w="127080">
                <a:solidFill>
                  <a:srgbClr val="ffffff"/>
                </a:solidFill>
                <a:miter/>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6" name="Rectangle"/>
              <p:cNvSpPr/>
              <p:nvPr/>
            </p:nvSpPr>
            <p:spPr>
              <a:xfrm rot="16200000">
                <a:off x="196560" y="-2442960"/>
                <a:ext cx="6497640" cy="865080"/>
              </a:xfrm>
              <a:prstGeom prst="rect">
                <a:avLst/>
              </a:prstGeom>
              <a:noFill/>
              <a:ln w="127080">
                <a:solidFill>
                  <a:srgbClr val="ffffff"/>
                </a:solidFill>
                <a:miter/>
              </a:ln>
            </p:spPr>
            <p:style>
              <a:lnRef idx="0"/>
              <a:fillRef idx="0"/>
              <a:effectRef idx="0"/>
              <a:fontRef idx="minor"/>
            </p:style>
            <p:txBody>
              <a:bodyPr lIns="26640" rIns="26640" tIns="26640" bIns="26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467" name="Advisory Body"/>
          <p:cNvSpPr/>
          <p:nvPr/>
        </p:nvSpPr>
        <p:spPr>
          <a:xfrm>
            <a:off x="4217040" y="3339720"/>
            <a:ext cx="1042920" cy="251640"/>
          </a:xfrm>
          <a:prstGeom prst="rect">
            <a:avLst/>
          </a:prstGeom>
          <a:noFill/>
          <a:ln w="0">
            <a:noFill/>
          </a:ln>
        </p:spPr>
        <p:style>
          <a:lnRef idx="0"/>
          <a:fillRef idx="0"/>
          <a:effectRef idx="0"/>
          <a:fontRef idx="minor"/>
        </p:style>
        <p:txBody>
          <a:bodyPr wrap="none"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Calibri"/>
              </a:rPr>
              <a:t>Advisory Body </a:t>
            </a:r>
            <a:endParaRPr b="0" lang="en-US" sz="1300" spc="-1" strike="noStrike">
              <a:solidFill>
                <a:srgbClr val="000000"/>
              </a:solidFill>
              <a:latin typeface="Calibri"/>
            </a:endParaRPr>
          </a:p>
        </p:txBody>
      </p:sp>
      <p:sp>
        <p:nvSpPr>
          <p:cNvPr id="468" name="Executive Committee"/>
          <p:cNvSpPr/>
          <p:nvPr/>
        </p:nvSpPr>
        <p:spPr>
          <a:xfrm>
            <a:off x="4031640" y="2446560"/>
            <a:ext cx="1476000" cy="251640"/>
          </a:xfrm>
          <a:prstGeom prst="rect">
            <a:avLst/>
          </a:prstGeom>
          <a:noFill/>
          <a:ln w="0">
            <a:noFill/>
          </a:ln>
        </p:spPr>
        <p:style>
          <a:lnRef idx="0"/>
          <a:fillRef idx="0"/>
          <a:effectRef idx="0"/>
          <a:fontRef idx="minor"/>
        </p:style>
        <p:txBody>
          <a:bodyPr wrap="none"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Calibri"/>
              </a:rPr>
              <a:t>Executive Committee</a:t>
            </a:r>
            <a:endParaRPr b="0" lang="en-US" sz="1300" spc="-1" strike="noStrike">
              <a:solidFill>
                <a:srgbClr val="000000"/>
              </a:solidFill>
              <a:latin typeface="Calibri"/>
            </a:endParaRPr>
          </a:p>
        </p:txBody>
      </p:sp>
      <p:sp>
        <p:nvSpPr>
          <p:cNvPr id="469" name="Steering Committee"/>
          <p:cNvSpPr/>
          <p:nvPr/>
        </p:nvSpPr>
        <p:spPr>
          <a:xfrm>
            <a:off x="4150440" y="1565640"/>
            <a:ext cx="1392120" cy="251640"/>
          </a:xfrm>
          <a:prstGeom prst="rect">
            <a:avLst/>
          </a:prstGeom>
          <a:noFill/>
          <a:ln w="0">
            <a:noFill/>
          </a:ln>
        </p:spPr>
        <p:style>
          <a:lnRef idx="0"/>
          <a:fillRef idx="0"/>
          <a:effectRef idx="0"/>
          <a:fontRef idx="minor"/>
        </p:style>
        <p:txBody>
          <a:bodyPr wrap="none"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Calibri"/>
              </a:rPr>
              <a:t>Steering Committee</a:t>
            </a:r>
            <a:endParaRPr b="0" lang="en-US" sz="1300" spc="-1" strike="noStrike">
              <a:solidFill>
                <a:srgbClr val="000000"/>
              </a:solidFill>
              <a:latin typeface="Calibri"/>
            </a:endParaRPr>
          </a:p>
        </p:txBody>
      </p:sp>
      <p:sp>
        <p:nvSpPr>
          <p:cNvPr id="470" name="Project teams"/>
          <p:cNvSpPr/>
          <p:nvPr/>
        </p:nvSpPr>
        <p:spPr>
          <a:xfrm>
            <a:off x="4279320" y="685440"/>
            <a:ext cx="979200" cy="251640"/>
          </a:xfrm>
          <a:prstGeom prst="rect">
            <a:avLst/>
          </a:prstGeom>
          <a:noFill/>
          <a:ln w="0">
            <a:noFill/>
          </a:ln>
        </p:spPr>
        <p:style>
          <a:lnRef idx="0"/>
          <a:fillRef idx="0"/>
          <a:effectRef idx="0"/>
          <a:fontRef idx="minor"/>
        </p:style>
        <p:txBody>
          <a:bodyPr wrap="none"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Calibri"/>
              </a:rPr>
              <a:t>Project teams</a:t>
            </a:r>
            <a:endParaRPr b="0" lang="en-US" sz="1300" spc="-1" strike="noStrike">
              <a:solidFill>
                <a:srgbClr val="000000"/>
              </a:solidFill>
              <a:latin typeface="Calibri"/>
            </a:endParaRPr>
          </a:p>
        </p:txBody>
      </p:sp>
      <p:pic>
        <p:nvPicPr>
          <p:cNvPr id="471" name="CTIQ_logosstalksonly.psd" descr="CTIQ_logosstalksonly.psd"/>
          <p:cNvPicPr/>
          <p:nvPr/>
        </p:nvPicPr>
        <p:blipFill>
          <a:blip r:embed="rId1"/>
          <a:stretch/>
        </p:blipFill>
        <p:spPr>
          <a:xfrm>
            <a:off x="4392720" y="3965400"/>
            <a:ext cx="919080" cy="771840"/>
          </a:xfrm>
          <a:prstGeom prst="rect">
            <a:avLst/>
          </a:prstGeom>
          <a:ln w="0">
            <a:noFill/>
          </a:ln>
          <a:effectLst>
            <a:outerShdw dist="0" dir="0" blurRad="0" rotWithShape="0">
              <a:srgbClr val="ffffff"/>
            </a:outerShdw>
          </a:effectLst>
        </p:spPr>
      </p:pic>
      <p:sp>
        <p:nvSpPr>
          <p:cNvPr id="472" name="developing consensus…"/>
          <p:cNvSpPr/>
          <p:nvPr/>
        </p:nvSpPr>
        <p:spPr>
          <a:xfrm>
            <a:off x="7278480" y="626400"/>
            <a:ext cx="1637280" cy="327960"/>
          </a:xfrm>
          <a:prstGeom prst="rect">
            <a:avLst/>
          </a:prstGeom>
          <a:noFill/>
          <a:ln w="0">
            <a:noFill/>
          </a:ln>
        </p:spPr>
        <p:style>
          <a:lnRef idx="0"/>
          <a:fillRef idx="0"/>
          <a:effectRef idx="0"/>
          <a:fontRef idx="minor"/>
        </p:style>
        <p:txBody>
          <a:bodyPr wrap="none" lIns="26640" rIns="26640" tIns="26640" bIns="26640" anchor="ctr">
            <a:spAutoFit/>
          </a:bodyPr>
          <a:p>
            <a:pPr marL="187200" indent="-187200">
              <a:lnSpc>
                <a:spcPct val="100000"/>
              </a:lnSpc>
              <a:buClr>
                <a:srgbClr val="000000"/>
              </a:buClr>
              <a:buSzPct val="145000"/>
              <a:buFont typeface="Calibri Light"/>
              <a:buChar char="•"/>
              <a:tabLst>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900" spc="-1" strike="noStrike">
                <a:solidFill>
                  <a:srgbClr val="000000"/>
                </a:solidFill>
                <a:latin typeface="Calibri Light"/>
                <a:ea typeface="Calibri Light"/>
              </a:rPr>
              <a:t>developing consensus  </a:t>
            </a:r>
            <a:endParaRPr b="0" lang="en-US" sz="900" spc="-1" strike="noStrike">
              <a:solidFill>
                <a:srgbClr val="000000"/>
              </a:solidFill>
              <a:latin typeface="Calibri"/>
            </a:endParaRPr>
          </a:p>
          <a:p>
            <a:pPr marL="187200" indent="-187200">
              <a:lnSpc>
                <a:spcPct val="100000"/>
              </a:lnSpc>
              <a:buClr>
                <a:srgbClr val="000000"/>
              </a:buClr>
              <a:buSzPct val="145000"/>
              <a:buFont typeface="Calibri Light"/>
              <a:buChar char="•"/>
              <a:tabLst>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900" spc="-1" strike="noStrike">
                <a:solidFill>
                  <a:srgbClr val="000000"/>
                </a:solidFill>
                <a:latin typeface="Calibri Light"/>
                <a:ea typeface="Calibri Light"/>
              </a:rPr>
              <a:t>Implementation planning </a:t>
            </a:r>
            <a:endParaRPr b="0" lang="en-US" sz="900" spc="-1" strike="noStrike">
              <a:solidFill>
                <a:srgbClr val="000000"/>
              </a:solidFill>
              <a:latin typeface="Calibri"/>
            </a:endParaRPr>
          </a:p>
        </p:txBody>
      </p:sp>
      <p:sp>
        <p:nvSpPr>
          <p:cNvPr id="473" name="topic prioritisation/selection…"/>
          <p:cNvSpPr/>
          <p:nvPr/>
        </p:nvSpPr>
        <p:spPr>
          <a:xfrm>
            <a:off x="6775200" y="1548720"/>
            <a:ext cx="1777320" cy="327960"/>
          </a:xfrm>
          <a:prstGeom prst="rect">
            <a:avLst/>
          </a:prstGeom>
          <a:noFill/>
          <a:ln w="0">
            <a:noFill/>
          </a:ln>
        </p:spPr>
        <p:style>
          <a:lnRef idx="0"/>
          <a:fillRef idx="0"/>
          <a:effectRef idx="0"/>
          <a:fontRef idx="minor"/>
        </p:style>
        <p:txBody>
          <a:bodyPr wrap="none" lIns="26640" rIns="26640" tIns="26640" bIns="26640" anchor="ctr">
            <a:spAutoFit/>
          </a:bodyPr>
          <a:p>
            <a:pPr marL="187200" indent="-187200">
              <a:lnSpc>
                <a:spcPct val="100000"/>
              </a:lnSpc>
              <a:buClr>
                <a:srgbClr val="000000"/>
              </a:buClr>
              <a:buSzPct val="145000"/>
              <a:buFont typeface="Calibri Light"/>
              <a:buChar char="•"/>
              <a:tabLst>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900" spc="-1" strike="noStrike">
                <a:solidFill>
                  <a:srgbClr val="000000"/>
                </a:solidFill>
                <a:latin typeface="Calibri Light"/>
                <a:ea typeface="Calibri Light"/>
              </a:rPr>
              <a:t>topic prioritisation/selection</a:t>
            </a:r>
            <a:endParaRPr b="0" lang="en-US" sz="900" spc="-1" strike="noStrike">
              <a:solidFill>
                <a:srgbClr val="000000"/>
              </a:solidFill>
              <a:latin typeface="Calibri"/>
            </a:endParaRPr>
          </a:p>
          <a:p>
            <a:pPr marL="187200" indent="-187200">
              <a:lnSpc>
                <a:spcPct val="100000"/>
              </a:lnSpc>
              <a:buClr>
                <a:srgbClr val="000000"/>
              </a:buClr>
              <a:buSzPct val="145000"/>
              <a:buFont typeface="Calibri Light"/>
              <a:buChar char="•"/>
              <a:tabLst>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900" spc="-1" strike="noStrike">
                <a:solidFill>
                  <a:srgbClr val="000000"/>
                </a:solidFill>
                <a:latin typeface="Calibri Light"/>
                <a:ea typeface="Calibri Light"/>
              </a:rPr>
              <a:t>supporting existing activities</a:t>
            </a:r>
            <a:endParaRPr b="0" lang="en-US" sz="900" spc="-1" strike="noStrike">
              <a:solidFill>
                <a:srgbClr val="000000"/>
              </a:solidFill>
              <a:latin typeface="Calibri"/>
            </a:endParaRPr>
          </a:p>
        </p:txBody>
      </p:sp>
      <p:sp>
        <p:nvSpPr>
          <p:cNvPr id="474" name="strategic direction"/>
          <p:cNvSpPr/>
          <p:nvPr/>
        </p:nvSpPr>
        <p:spPr>
          <a:xfrm>
            <a:off x="6052320" y="3349440"/>
            <a:ext cx="1584360" cy="190800"/>
          </a:xfrm>
          <a:prstGeom prst="rect">
            <a:avLst/>
          </a:prstGeom>
          <a:noFill/>
          <a:ln w="0">
            <a:noFill/>
          </a:ln>
        </p:spPr>
        <p:style>
          <a:lnRef idx="0"/>
          <a:fillRef idx="0"/>
          <a:effectRef idx="0"/>
          <a:fontRef idx="minor"/>
        </p:style>
        <p:txBody>
          <a:bodyPr wrap="none" lIns="26640" rIns="26640" tIns="26640" bIns="26640" anchor="ctr">
            <a:spAutoFit/>
          </a:bodyPr>
          <a:p>
            <a:pPr marL="498600" indent="-498600">
              <a:lnSpc>
                <a:spcPct val="100000"/>
              </a:lnSpc>
              <a:buClr>
                <a:srgbClr val="000000"/>
              </a:buClr>
              <a:buSzPct val="145000"/>
              <a:buFont typeface="Calibri Ligh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Light"/>
                <a:ea typeface="Calibri Light"/>
              </a:rPr>
              <a:t> </a:t>
            </a:r>
            <a:r>
              <a:rPr b="0" lang="en-US" sz="900" spc="-1" strike="noStrike">
                <a:solidFill>
                  <a:srgbClr val="000000"/>
                </a:solidFill>
                <a:latin typeface="Calibri Light"/>
                <a:ea typeface="Calibri Light"/>
              </a:rPr>
              <a:t>strategic direction </a:t>
            </a:r>
            <a:endParaRPr b="0" lang="en-US" sz="900" spc="-1" strike="noStrike">
              <a:solidFill>
                <a:srgbClr val="000000"/>
              </a:solidFill>
              <a:latin typeface="Calibri"/>
            </a:endParaRPr>
          </a:p>
        </p:txBody>
      </p:sp>
      <p:sp>
        <p:nvSpPr>
          <p:cNvPr id="475" name="Up to 40 stakeholder…"/>
          <p:cNvSpPr/>
          <p:nvPr/>
        </p:nvSpPr>
        <p:spPr>
          <a:xfrm>
            <a:off x="573480" y="1467360"/>
            <a:ext cx="1678680" cy="449640"/>
          </a:xfrm>
          <a:prstGeom prst="rect">
            <a:avLst/>
          </a:prstGeom>
          <a:noFill/>
          <a:ln w="0">
            <a:noFill/>
          </a:ln>
        </p:spPr>
        <p:style>
          <a:lnRef idx="0"/>
          <a:fillRef idx="0"/>
          <a:effectRef idx="0"/>
          <a:fontRef idx="minor"/>
        </p:style>
        <p:txBody>
          <a:bodyPr wrap="none" lIns="26640" rIns="26640" tIns="26640" bIns="26640" anchor="ctr">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300" spc="-1" strike="noStrike">
                <a:solidFill>
                  <a:srgbClr val="67388b"/>
                </a:solidFill>
                <a:latin typeface="Calibri"/>
                <a:ea typeface="Calibri"/>
              </a:rPr>
              <a:t>Up to 40 stakeholder</a:t>
            </a:r>
            <a:endParaRPr b="0" lang="en-US" sz="1300" spc="-1" strike="noStrike">
              <a:solidFill>
                <a:srgbClr val="000000"/>
              </a:solidFill>
              <a:latin typeface="Calibri"/>
            </a:endParaRPr>
          </a:p>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300" spc="-1" strike="noStrike">
                <a:solidFill>
                  <a:srgbClr val="67388b"/>
                </a:solidFill>
                <a:latin typeface="Calibri"/>
                <a:ea typeface="Calibri"/>
              </a:rPr>
              <a:t>organisational members</a:t>
            </a:r>
            <a:endParaRPr b="0" lang="en-US" sz="1300" spc="-1" strike="noStrike">
              <a:solidFill>
                <a:srgbClr val="000000"/>
              </a:solidFill>
              <a:latin typeface="Calibri"/>
            </a:endParaRPr>
          </a:p>
        </p:txBody>
      </p:sp>
      <p:sp>
        <p:nvSpPr>
          <p:cNvPr id="476" name="decision making…"/>
          <p:cNvSpPr/>
          <p:nvPr/>
        </p:nvSpPr>
        <p:spPr>
          <a:xfrm>
            <a:off x="6389280" y="2387880"/>
            <a:ext cx="1993680" cy="327960"/>
          </a:xfrm>
          <a:prstGeom prst="rect">
            <a:avLst/>
          </a:prstGeom>
          <a:noFill/>
          <a:ln w="0">
            <a:noFill/>
          </a:ln>
        </p:spPr>
        <p:style>
          <a:lnRef idx="0"/>
          <a:fillRef idx="0"/>
          <a:effectRef idx="0"/>
          <a:fontRef idx="minor"/>
        </p:style>
        <p:txBody>
          <a:bodyPr wrap="none" lIns="26640" rIns="26640" tIns="26640" bIns="26640" anchor="ctr">
            <a:spAutoFit/>
          </a:bodyPr>
          <a:p>
            <a:pPr marL="187200" indent="-187200">
              <a:lnSpc>
                <a:spcPct val="100000"/>
              </a:lnSpc>
              <a:buClr>
                <a:srgbClr val="000000"/>
              </a:buClr>
              <a:buSzPct val="145000"/>
              <a:buFont typeface="Calibri Light"/>
              <a:buChar char="•"/>
              <a:tabLst>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900" spc="-1" strike="noStrike">
                <a:solidFill>
                  <a:srgbClr val="000000"/>
                </a:solidFill>
                <a:latin typeface="Calibri Light"/>
                <a:ea typeface="Calibri Light"/>
              </a:rPr>
              <a:t>decision making</a:t>
            </a:r>
            <a:endParaRPr b="0" lang="en-US" sz="900" spc="-1" strike="noStrike">
              <a:solidFill>
                <a:srgbClr val="000000"/>
              </a:solidFill>
              <a:latin typeface="Calibri"/>
            </a:endParaRPr>
          </a:p>
          <a:p>
            <a:pPr marL="187200" indent="-187200">
              <a:lnSpc>
                <a:spcPct val="100000"/>
              </a:lnSpc>
              <a:buClr>
                <a:srgbClr val="000000"/>
              </a:buClr>
              <a:buSzPct val="145000"/>
              <a:buFont typeface="Calibri Light"/>
              <a:buChar char="•"/>
              <a:tabLst>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900" spc="-1" strike="noStrike">
                <a:solidFill>
                  <a:srgbClr val="000000"/>
                </a:solidFill>
                <a:latin typeface="Calibri Light"/>
                <a:ea typeface="Calibri Light"/>
              </a:rPr>
              <a:t>accountability (including budget)</a:t>
            </a:r>
            <a:endParaRPr b="0" lang="en-US" sz="900" spc="-1" strike="noStrike">
              <a:solidFill>
                <a:srgbClr val="000000"/>
              </a:solidFill>
              <a:latin typeface="Calibri"/>
            </a:endParaRPr>
          </a:p>
        </p:txBody>
      </p:sp>
      <p:pic>
        <p:nvPicPr>
          <p:cNvPr id="477" name="TGI Logo 85K+2612.pdf" descr="TGI Logo 85K+2612.pdf"/>
          <p:cNvPicPr/>
          <p:nvPr/>
        </p:nvPicPr>
        <p:blipFill>
          <a:blip r:embed="rId2"/>
          <a:stretch/>
        </p:blipFill>
        <p:spPr>
          <a:xfrm>
            <a:off x="534960" y="2289240"/>
            <a:ext cx="890640" cy="152280"/>
          </a:xfrm>
          <a:prstGeom prst="rect">
            <a:avLst/>
          </a:prstGeom>
          <a:ln w="0">
            <a:noFill/>
          </a:ln>
        </p:spPr>
      </p:pic>
      <p:pic>
        <p:nvPicPr>
          <p:cNvPr id="478" name="CTC Logo _ TransBackground (002).pdf" descr="CTC Logo _ TransBackground (002).pdf"/>
          <p:cNvPicPr/>
          <p:nvPr/>
        </p:nvPicPr>
        <p:blipFill>
          <a:blip r:embed="rId3"/>
          <a:stretch/>
        </p:blipFill>
        <p:spPr>
          <a:xfrm>
            <a:off x="649440" y="2490840"/>
            <a:ext cx="330120" cy="426960"/>
          </a:xfrm>
          <a:prstGeom prst="rect">
            <a:avLst/>
          </a:prstGeom>
          <a:ln w="0">
            <a:noFill/>
          </a:ln>
        </p:spPr>
      </p:pic>
      <p:pic>
        <p:nvPicPr>
          <p:cNvPr id="479" name="actalarge.PNG" descr="actalarge.PNG"/>
          <p:cNvPicPr/>
          <p:nvPr/>
        </p:nvPicPr>
        <p:blipFill>
          <a:blip r:embed="rId4"/>
          <a:stretch/>
        </p:blipFill>
        <p:spPr>
          <a:xfrm>
            <a:off x="1152360" y="2444760"/>
            <a:ext cx="432000" cy="431640"/>
          </a:xfrm>
          <a:prstGeom prst="rect">
            <a:avLst/>
          </a:prstGeom>
          <a:ln w="0">
            <a:noFill/>
          </a:ln>
        </p:spPr>
      </p:pic>
      <p:pic>
        <p:nvPicPr>
          <p:cNvPr id="480" name="BELLBERRY LOGO-Bb.png" descr="BELLBERRY LOGO-Bb.png"/>
          <p:cNvPicPr/>
          <p:nvPr/>
        </p:nvPicPr>
        <p:blipFill>
          <a:blip r:embed="rId5"/>
          <a:stretch/>
        </p:blipFill>
        <p:spPr>
          <a:xfrm>
            <a:off x="1533600" y="2255760"/>
            <a:ext cx="765000" cy="217440"/>
          </a:xfrm>
          <a:prstGeom prst="rect">
            <a:avLst/>
          </a:prstGeom>
          <a:ln w="0">
            <a:noFill/>
          </a:ln>
        </p:spPr>
      </p:pic>
      <p:pic>
        <p:nvPicPr>
          <p:cNvPr id="481" name="CTTI_logo.png" descr="CTTI_logo.png"/>
          <p:cNvPicPr/>
          <p:nvPr/>
        </p:nvPicPr>
        <p:blipFill>
          <a:blip r:embed="rId6"/>
          <a:stretch/>
        </p:blipFill>
        <p:spPr>
          <a:xfrm>
            <a:off x="534960" y="3397320"/>
            <a:ext cx="765360" cy="399960"/>
          </a:xfrm>
          <a:prstGeom prst="rect">
            <a:avLst/>
          </a:prstGeom>
          <a:ln w="0">
            <a:noFill/>
          </a:ln>
        </p:spPr>
      </p:pic>
      <p:pic>
        <p:nvPicPr>
          <p:cNvPr id="482" name="MTPconnectlogo.png" descr="MTPconnectlogo.png"/>
          <p:cNvPicPr/>
          <p:nvPr/>
        </p:nvPicPr>
        <p:blipFill>
          <a:blip r:embed="rId7"/>
          <a:stretch/>
        </p:blipFill>
        <p:spPr>
          <a:xfrm>
            <a:off x="1249200" y="3170160"/>
            <a:ext cx="762120" cy="354240"/>
          </a:xfrm>
          <a:prstGeom prst="rect">
            <a:avLst/>
          </a:prstGeom>
          <a:ln w="0">
            <a:noFill/>
          </a:ln>
        </p:spPr>
      </p:pic>
      <p:pic>
        <p:nvPicPr>
          <p:cNvPr id="483" name="Image" descr="Image"/>
          <p:cNvPicPr/>
          <p:nvPr/>
        </p:nvPicPr>
        <p:blipFill>
          <a:blip r:embed="rId8"/>
          <a:stretch/>
        </p:blipFill>
        <p:spPr>
          <a:xfrm>
            <a:off x="2011320" y="3444840"/>
            <a:ext cx="828720" cy="304920"/>
          </a:xfrm>
          <a:prstGeom prst="rect">
            <a:avLst/>
          </a:prstGeom>
          <a:ln w="0">
            <a:noFill/>
          </a:ln>
        </p:spPr>
      </p:pic>
      <p:pic>
        <p:nvPicPr>
          <p:cNvPr id="484" name="AustGovt_logo_stacked.jpg" descr="AustGovt_logo_stacked.jpg"/>
          <p:cNvPicPr/>
          <p:nvPr/>
        </p:nvPicPr>
        <p:blipFill>
          <a:blip r:embed="rId9"/>
          <a:stretch/>
        </p:blipFill>
        <p:spPr>
          <a:xfrm>
            <a:off x="1736640" y="2487600"/>
            <a:ext cx="781200" cy="395280"/>
          </a:xfrm>
          <a:prstGeom prst="rect">
            <a:avLst/>
          </a:prstGeom>
          <a:ln w="0">
            <a:noFill/>
          </a:ln>
        </p:spPr>
      </p:pic>
      <p:sp>
        <p:nvSpPr>
          <p:cNvPr id="485" name="industry…"/>
          <p:cNvSpPr/>
          <p:nvPr/>
        </p:nvSpPr>
        <p:spPr>
          <a:xfrm>
            <a:off x="2554920" y="2388240"/>
            <a:ext cx="832680" cy="465120"/>
          </a:xfrm>
          <a:prstGeom prst="rect">
            <a:avLst/>
          </a:prstGeom>
          <a:noFill/>
          <a:ln w="0">
            <a:noFill/>
          </a:ln>
        </p:spPr>
        <p:style>
          <a:lnRef idx="0"/>
          <a:fillRef idx="0"/>
          <a:effectRef idx="0"/>
          <a:fontRef idx="minor"/>
        </p:style>
        <p:txBody>
          <a:bodyPr wrap="none" lIns="26640" rIns="26640" tIns="26640" bIns="26640" anchor="ctr">
            <a:spAutoFit/>
          </a:bodyPr>
          <a:p>
            <a:pPr marL="187200" indent="-187200">
              <a:lnSpc>
                <a:spcPct val="100000"/>
              </a:lnSpc>
              <a:buClr>
                <a:srgbClr val="000000"/>
              </a:buClr>
              <a:buSzPct val="145000"/>
              <a:buFont typeface="Calibri Light"/>
              <a:buChar char="+"/>
              <a:tabLst>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900" spc="-1" strike="noStrike">
                <a:solidFill>
                  <a:srgbClr val="000000"/>
                </a:solidFill>
                <a:latin typeface="Calibri Light"/>
                <a:ea typeface="Calibri Light"/>
              </a:rPr>
              <a:t>industry</a:t>
            </a:r>
            <a:endParaRPr b="0" lang="en-US" sz="900" spc="-1" strike="noStrike">
              <a:solidFill>
                <a:srgbClr val="000000"/>
              </a:solidFill>
              <a:latin typeface="Calibri"/>
            </a:endParaRPr>
          </a:p>
          <a:p>
            <a:pPr marL="187200" indent="-187200">
              <a:lnSpc>
                <a:spcPct val="100000"/>
              </a:lnSpc>
              <a:buClr>
                <a:srgbClr val="000000"/>
              </a:buClr>
              <a:buSzPct val="145000"/>
              <a:buFont typeface="Calibri Light"/>
              <a:buChar char="+"/>
              <a:tabLst>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900" spc="-1" strike="noStrike">
                <a:solidFill>
                  <a:srgbClr val="000000"/>
                </a:solidFill>
                <a:latin typeface="Calibri Light"/>
                <a:ea typeface="Calibri Light"/>
              </a:rPr>
              <a:t>consumers</a:t>
            </a:r>
            <a:endParaRPr b="0" lang="en-US" sz="900" spc="-1" strike="noStrike">
              <a:solidFill>
                <a:srgbClr val="000000"/>
              </a:solidFill>
              <a:latin typeface="Calibri"/>
            </a:endParaRPr>
          </a:p>
          <a:p>
            <a:pPr marL="187200" indent="-187200">
              <a:lnSpc>
                <a:spcPct val="100000"/>
              </a:lnSpc>
              <a:buClr>
                <a:srgbClr val="000000"/>
              </a:buClr>
              <a:buSzPct val="145000"/>
              <a:buFont typeface="Calibri Light"/>
              <a:buChar char="+"/>
              <a:tabLst>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900" spc="-1" strike="noStrike">
                <a:solidFill>
                  <a:srgbClr val="000000"/>
                </a:solidFill>
                <a:latin typeface="Calibri Light"/>
                <a:ea typeface="Calibri Light"/>
              </a:rPr>
              <a:t>others</a:t>
            </a:r>
            <a:endParaRPr b="0" lang="en-US" sz="900" spc="-1" strike="noStrike">
              <a:solidFill>
                <a:srgbClr val="000000"/>
              </a:solidFill>
              <a:latin typeface="Calibri"/>
            </a:endParaRPr>
          </a:p>
        </p:txBody>
      </p:sp>
      <p:sp>
        <p:nvSpPr>
          <p:cNvPr id="486" name="others"/>
          <p:cNvSpPr/>
          <p:nvPr/>
        </p:nvSpPr>
        <p:spPr>
          <a:xfrm>
            <a:off x="3118320" y="3295440"/>
            <a:ext cx="761040" cy="465120"/>
          </a:xfrm>
          <a:prstGeom prst="rect">
            <a:avLst/>
          </a:prstGeom>
          <a:noFill/>
          <a:ln w="0">
            <a:noFill/>
          </a:ln>
        </p:spPr>
        <p:style>
          <a:lnRef idx="0"/>
          <a:fillRef idx="0"/>
          <a:effectRef idx="0"/>
          <a:fontRef idx="minor"/>
        </p:style>
        <p:txBody>
          <a:bodyPr wrap="none" lIns="26640" rIns="26640" tIns="26640" bIns="266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Light"/>
                <a:ea typeface="Calibri Light"/>
              </a:rPr>
              <a:t>+TGA</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Light"/>
                <a:ea typeface="Calibri Light"/>
              </a:rPr>
              <a:t>+PBAC/MSAC</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Light"/>
                <a:ea typeface="Calibri Light"/>
              </a:rPr>
              <a:t>+ </a:t>
            </a:r>
            <a:r>
              <a:rPr b="0" lang="en-US" sz="900" spc="-1" strike="noStrike">
                <a:solidFill>
                  <a:srgbClr val="000000"/>
                </a:solidFill>
                <a:latin typeface="Calibri Light"/>
                <a:ea typeface="Calibri Light"/>
              </a:rPr>
              <a:t>others</a:t>
            </a:r>
            <a:endParaRPr b="0" lang="en-US" sz="900" spc="-1" strike="noStrike">
              <a:solidFill>
                <a:srgbClr val="000000"/>
              </a:solidFill>
              <a:latin typeface="Calibri"/>
            </a:endParaRPr>
          </a:p>
        </p:txBody>
      </p:sp>
      <p:sp>
        <p:nvSpPr>
          <p:cNvPr id="487" name="Proposed Governance Structure for CT:IQ"/>
          <p:cNvSpPr/>
          <p:nvPr/>
        </p:nvSpPr>
        <p:spPr>
          <a:xfrm>
            <a:off x="5296680" y="4100400"/>
            <a:ext cx="3254400" cy="677880"/>
          </a:xfrm>
          <a:prstGeom prst="rect">
            <a:avLst/>
          </a:prstGeom>
          <a:noFill/>
          <a:ln w="0">
            <a:noFill/>
          </a:ln>
        </p:spPr>
        <p:style>
          <a:lnRef idx="0"/>
          <a:fillRef idx="0"/>
          <a:effectRef idx="0"/>
          <a:fontRef idx="minor"/>
        </p:style>
        <p:txBody>
          <a:bodyPr wrap="none" lIns="26640" rIns="26640" tIns="26640" bIns="26640" anchor="ctr">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300" spc="-1" strike="noStrike">
              <a:solidFill>
                <a:srgbClr val="000000"/>
              </a:solidFill>
              <a:latin typeface="Calibri"/>
            </a:endParaRPr>
          </a:p>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300" spc="-1" strike="noStrike">
                <a:solidFill>
                  <a:srgbClr val="000000"/>
                </a:solidFill>
                <a:latin typeface="Calibri"/>
                <a:ea typeface="Calibri"/>
              </a:rPr>
              <a:t> </a:t>
            </a:r>
            <a:endParaRPr b="0" lang="en-US" sz="1300" spc="-1" strike="noStrike">
              <a:solidFill>
                <a:srgbClr val="000000"/>
              </a:solidFill>
              <a:latin typeface="Calibri"/>
            </a:endParaRPr>
          </a:p>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i="1" lang="en-US" sz="1500" spc="-1" strike="noStrike">
                <a:solidFill>
                  <a:srgbClr val="5e5e5e"/>
                </a:solidFill>
                <a:latin typeface="Calibri"/>
                <a:ea typeface="Calibri"/>
              </a:rPr>
              <a:t>Proposed Governance Structure for CT:IQ</a:t>
            </a:r>
            <a:r>
              <a:rPr b="0" lang="en-US" sz="1300" spc="-1" strike="noStrike">
                <a:solidFill>
                  <a:srgbClr val="000000"/>
                </a:solidFill>
                <a:latin typeface="Calibri"/>
                <a:ea typeface="Calibri"/>
              </a:rPr>
              <a:t> </a:t>
            </a:r>
            <a:endParaRPr b="0" lang="en-US" sz="13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hape"/>
          <p:cNvSpPr/>
          <p:nvPr/>
        </p:nvSpPr>
        <p:spPr>
          <a:xfrm flipH="1">
            <a:off x="-3184560" y="885960"/>
            <a:ext cx="11939760" cy="3186000"/>
          </a:xfrm>
          <a:custGeom>
            <a:avLst/>
            <a:gdLst/>
            <a:ahLst/>
            <a:rect l="l" t="t" r="r" b="b"/>
            <a:pathLst>
              <a:path w="21600" h="21600">
                <a:moveTo>
                  <a:pt x="0" y="0"/>
                </a:moveTo>
                <a:lnTo>
                  <a:pt x="21600" y="0"/>
                </a:lnTo>
                <a:lnTo>
                  <a:pt x="21600" y="21600"/>
                </a:lnTo>
                <a:lnTo>
                  <a:pt x="3436" y="21600"/>
                </a:lnTo>
                <a:lnTo>
                  <a:pt x="0" y="0"/>
                </a:lnTo>
                <a:close/>
              </a:path>
            </a:pathLst>
          </a:custGeom>
          <a:solidFill>
            <a:srgbClr val="debcfc">
              <a:alpha val="50000"/>
            </a:srgbClr>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89" name="Steering Committee Membership"/>
          <p:cNvSpPr/>
          <p:nvPr/>
        </p:nvSpPr>
        <p:spPr>
          <a:xfrm>
            <a:off x="558360" y="259560"/>
            <a:ext cx="4750920" cy="465120"/>
          </a:xfrm>
          <a:prstGeom prst="rect">
            <a:avLst/>
          </a:prstGeom>
          <a:noFill/>
          <a:ln w="0">
            <a:noFill/>
          </a:ln>
        </p:spPr>
        <p:style>
          <a:lnRef idx="0"/>
          <a:fillRef idx="0"/>
          <a:effectRef idx="0"/>
          <a:fontRef idx="minor"/>
        </p:style>
        <p:txBody>
          <a:bodyPr wrap="none" lIns="26640" rIns="26640" tIns="26640" bIns="26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700" spc="-1" strike="noStrike">
                <a:solidFill>
                  <a:srgbClr val="929292"/>
                </a:solidFill>
                <a:latin typeface="Calibri"/>
                <a:ea typeface="Calibri"/>
              </a:rPr>
              <a:t>Steering Committee Membership</a:t>
            </a:r>
            <a:endParaRPr b="0" lang="en-US" sz="2700" spc="-1" strike="noStrike">
              <a:solidFill>
                <a:srgbClr val="000000"/>
              </a:solidFill>
              <a:latin typeface="Calibri"/>
            </a:endParaRPr>
          </a:p>
        </p:txBody>
      </p:sp>
      <p:sp>
        <p:nvSpPr>
          <p:cNvPr id="490" name="TextBox 4"/>
          <p:cNvSpPr/>
          <p:nvPr/>
        </p:nvSpPr>
        <p:spPr>
          <a:xfrm>
            <a:off x="517680" y="1076400"/>
            <a:ext cx="7078680" cy="3010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AU" sz="1600" spc="-1" strike="noStrike">
                <a:solidFill>
                  <a:srgbClr val="000000"/>
                </a:solidFill>
                <a:latin typeface="Calibri"/>
                <a:ea typeface="Calibri"/>
              </a:rPr>
              <a:t>Nominate topics &amp; prioritise projects</a:t>
            </a: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AU" sz="1600" spc="-1" strike="noStrike">
                <a:solidFill>
                  <a:srgbClr val="000000"/>
                </a:solidFill>
                <a:latin typeface="Calibri"/>
                <a:ea typeface="Calibri"/>
              </a:rPr>
              <a:t>Regular reports &amp; public acknowledgement</a:t>
            </a: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AU" sz="1600" spc="-1" strike="noStrike">
                <a:solidFill>
                  <a:srgbClr val="000000"/>
                </a:solidFill>
                <a:latin typeface="Calibri"/>
                <a:ea typeface="Calibri"/>
              </a:rPr>
              <a:t>Named representative</a:t>
            </a:r>
            <a:r>
              <a:rPr b="0" lang="en-AU" sz="1600" spc="-1" strike="noStrike">
                <a:solidFill>
                  <a:srgbClr val="000000"/>
                </a:solidFill>
                <a:latin typeface="Calibri"/>
                <a:ea typeface="Calibri"/>
              </a:rPr>
              <a:t> on the Steering Committee</a:t>
            </a: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AU" sz="1600" spc="-1" strike="noStrike">
                <a:solidFill>
                  <a:srgbClr val="000000"/>
                </a:solidFill>
                <a:latin typeface="Calibri"/>
                <a:ea typeface="Calibri"/>
              </a:rPr>
              <a:t>Time commitment </a:t>
            </a:r>
            <a:r>
              <a:rPr b="0" lang="en-AU" sz="1600" spc="-1" strike="noStrike">
                <a:solidFill>
                  <a:srgbClr val="000000"/>
                </a:solidFill>
                <a:latin typeface="Calibri"/>
                <a:ea typeface="Calibri"/>
              </a:rPr>
              <a:t>of 4-12 hours/month</a:t>
            </a: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AU" sz="1600" spc="-1" strike="noStrike">
                <a:solidFill>
                  <a:srgbClr val="000000"/>
                </a:solidFill>
                <a:latin typeface="Calibri"/>
                <a:ea typeface="Calibri"/>
              </a:rPr>
              <a:t>Active participation </a:t>
            </a:r>
            <a:r>
              <a:rPr b="0" lang="en-AU" sz="1600" spc="-1" strike="noStrike">
                <a:solidFill>
                  <a:srgbClr val="000000"/>
                </a:solidFill>
                <a:latin typeface="Calibri"/>
                <a:ea typeface="Calibri"/>
              </a:rPr>
              <a:t>(seek, engage, promote, collaborate etc)</a:t>
            </a: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AU" sz="1600" spc="-1" strike="noStrike">
                <a:solidFill>
                  <a:srgbClr val="000000"/>
                </a:solidFill>
                <a:latin typeface="Calibri"/>
                <a:ea typeface="Calibri"/>
              </a:rPr>
              <a:t>Membership fees</a:t>
            </a:r>
            <a:r>
              <a:rPr b="0" lang="en-AU" sz="1600" spc="-1" strike="noStrike">
                <a:solidFill>
                  <a:srgbClr val="000000"/>
                </a:solidFill>
                <a:latin typeface="Calibri"/>
                <a:ea typeface="Calibri"/>
              </a:rPr>
              <a:t> (based on organisation type [$1,000-20,000]  </a:t>
            </a:r>
            <a:endParaRPr b="0" lang="en-US" sz="16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AU" sz="1600" spc="-1" strike="noStrike">
                <a:solidFill>
                  <a:srgbClr val="000000"/>
                </a:solidFill>
                <a:latin typeface="Calibri"/>
                <a:ea typeface="Calibri"/>
              </a:rPr>
              <a:t>for pilot project duration i.e. until December 2019)</a:t>
            </a:r>
            <a:endParaRPr b="0" lang="en-US" sz="1600" spc="-1" strike="noStrike">
              <a:solidFill>
                <a:srgbClr val="000000"/>
              </a:solidFill>
              <a:latin typeface="Calibri"/>
            </a:endParaRPr>
          </a:p>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600" spc="-1" strike="noStrike">
              <a:solidFill>
                <a:srgbClr val="000000"/>
              </a:solidFill>
              <a:latin typeface="Calibri"/>
            </a:endParaRPr>
          </a:p>
        </p:txBody>
      </p:sp>
      <p:pic>
        <p:nvPicPr>
          <p:cNvPr id="491" name="CTIQ_logosstalksonly.psd" descr="CTIQ_logosstalksonly.psd"/>
          <p:cNvPicPr/>
          <p:nvPr/>
        </p:nvPicPr>
        <p:blipFill>
          <a:blip r:embed="rId1"/>
          <a:stretch/>
        </p:blipFill>
        <p:spPr>
          <a:xfrm>
            <a:off x="5349960" y="727200"/>
            <a:ext cx="2562120" cy="21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roposed Project Roles and Responsibilities…"/>
          <p:cNvSpPr/>
          <p:nvPr/>
        </p:nvSpPr>
        <p:spPr>
          <a:xfrm>
            <a:off x="675360" y="475920"/>
            <a:ext cx="8210520" cy="522720"/>
          </a:xfrm>
          <a:prstGeom prst="rect">
            <a:avLst/>
          </a:prstGeom>
          <a:noFill/>
          <a:ln w="0">
            <a:noFill/>
          </a:ln>
        </p:spPr>
        <p:style>
          <a:lnRef idx="0"/>
          <a:fillRef idx="0"/>
          <a:effectRef idx="0"/>
          <a:fontRef idx="minor"/>
        </p:style>
        <p:txBody>
          <a:bodyPr wrap="none" lIns="26640" rIns="26640" tIns="26640" bIns="26640" anchor="ctr">
            <a:spAutoFit/>
          </a:bodyPr>
          <a:p>
            <a:pPr>
              <a:lnSpc>
                <a:spcPct val="7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929292"/>
                </a:solidFill>
                <a:latin typeface="Calibri"/>
                <a:ea typeface="Calibri"/>
              </a:rPr>
              <a:t>Proposed Project Roles and Responsibilities</a:t>
            </a:r>
            <a:endParaRPr b="0" lang="en-US" sz="2400" spc="-1" strike="noStrike">
              <a:solidFill>
                <a:srgbClr val="000000"/>
              </a:solidFill>
              <a:latin typeface="Calibri"/>
            </a:endParaRPr>
          </a:p>
          <a:p>
            <a:pPr>
              <a:lnSpc>
                <a:spcPct val="7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000" spc="-1" strike="noStrike">
                <a:solidFill>
                  <a:srgbClr val="929292"/>
                </a:solidFill>
                <a:latin typeface="Calibri"/>
                <a:ea typeface="Calibri"/>
              </a:rPr>
              <a:t>(planning, evidence, meeting &amp; workshops, recommendations, presentations)  </a:t>
            </a:r>
            <a:endParaRPr b="0" lang="en-US" sz="2000" spc="-1" strike="noStrike">
              <a:solidFill>
                <a:srgbClr val="000000"/>
              </a:solidFill>
              <a:latin typeface="Calibri"/>
            </a:endParaRPr>
          </a:p>
        </p:txBody>
      </p:sp>
      <p:sp>
        <p:nvSpPr>
          <p:cNvPr id="493" name="Shape"/>
          <p:cNvSpPr/>
          <p:nvPr/>
        </p:nvSpPr>
        <p:spPr>
          <a:xfrm>
            <a:off x="4302000" y="1352520"/>
            <a:ext cx="1009800" cy="941400"/>
          </a:xfrm>
          <a:custGeom>
            <a:avLst/>
            <a:gdLst/>
            <a:ahLst/>
            <a:rect l="l" t="t" r="r" b="b"/>
            <a:pathLst>
              <a:path w="21600" h="21600">
                <a:moveTo>
                  <a:pt x="0" y="0"/>
                </a:moveTo>
                <a:lnTo>
                  <a:pt x="21600" y="0"/>
                </a:lnTo>
                <a:lnTo>
                  <a:pt x="21466" y="21600"/>
                </a:lnTo>
                <a:lnTo>
                  <a:pt x="12003" y="21600"/>
                </a:lnTo>
                <a:lnTo>
                  <a:pt x="0" y="0"/>
                </a:lnTo>
                <a:close/>
              </a:path>
            </a:pathLst>
          </a:custGeom>
          <a:solidFill>
            <a:srgbClr val="debcfc">
              <a:alpha val="50000"/>
            </a:srgbClr>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94" name="Shape"/>
          <p:cNvSpPr/>
          <p:nvPr/>
        </p:nvSpPr>
        <p:spPr>
          <a:xfrm>
            <a:off x="5421240" y="1352520"/>
            <a:ext cx="939960" cy="941400"/>
          </a:xfrm>
          <a:custGeom>
            <a:avLst/>
            <a:gdLst/>
            <a:ahLst/>
            <a:rect l="l" t="t" r="r" b="b"/>
            <a:pathLst>
              <a:path w="21600" h="21600">
                <a:moveTo>
                  <a:pt x="124" y="0"/>
                </a:moveTo>
                <a:lnTo>
                  <a:pt x="21600" y="0"/>
                </a:lnTo>
                <a:lnTo>
                  <a:pt x="21600" y="21600"/>
                </a:lnTo>
                <a:lnTo>
                  <a:pt x="0" y="21600"/>
                </a:lnTo>
                <a:lnTo>
                  <a:pt x="124" y="0"/>
                </a:lnTo>
                <a:close/>
              </a:path>
            </a:pathLst>
          </a:custGeom>
          <a:solidFill>
            <a:srgbClr val="debcfc">
              <a:alpha val="50000"/>
            </a:srgbClr>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95" name="Shape"/>
          <p:cNvSpPr/>
          <p:nvPr/>
        </p:nvSpPr>
        <p:spPr>
          <a:xfrm>
            <a:off x="6505560" y="1352520"/>
            <a:ext cx="939960" cy="941400"/>
          </a:xfrm>
          <a:custGeom>
            <a:avLst/>
            <a:gdLst/>
            <a:ahLst/>
            <a:rect l="l" t="t" r="r" b="b"/>
            <a:pathLst>
              <a:path w="21600" h="21600">
                <a:moveTo>
                  <a:pt x="124" y="0"/>
                </a:moveTo>
                <a:lnTo>
                  <a:pt x="21600" y="0"/>
                </a:lnTo>
                <a:lnTo>
                  <a:pt x="21600" y="21600"/>
                </a:lnTo>
                <a:lnTo>
                  <a:pt x="0" y="21600"/>
                </a:lnTo>
                <a:lnTo>
                  <a:pt x="124" y="0"/>
                </a:lnTo>
                <a:close/>
              </a:path>
            </a:pathLst>
          </a:custGeom>
          <a:solidFill>
            <a:srgbClr val="debcfc">
              <a:alpha val="50000"/>
            </a:srgbClr>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96" name="Shape"/>
          <p:cNvSpPr/>
          <p:nvPr/>
        </p:nvSpPr>
        <p:spPr>
          <a:xfrm>
            <a:off x="7589880" y="1352520"/>
            <a:ext cx="939600" cy="941400"/>
          </a:xfrm>
          <a:custGeom>
            <a:avLst/>
            <a:gdLst/>
            <a:ahLst/>
            <a:rect l="l" t="t" r="r" b="b"/>
            <a:pathLst>
              <a:path w="21600" h="21600">
                <a:moveTo>
                  <a:pt x="124" y="0"/>
                </a:moveTo>
                <a:lnTo>
                  <a:pt x="21600" y="0"/>
                </a:lnTo>
                <a:lnTo>
                  <a:pt x="21600" y="21600"/>
                </a:lnTo>
                <a:lnTo>
                  <a:pt x="0" y="21600"/>
                </a:lnTo>
                <a:lnTo>
                  <a:pt x="124" y="0"/>
                </a:lnTo>
                <a:close/>
              </a:path>
            </a:pathLst>
          </a:custGeom>
          <a:solidFill>
            <a:srgbClr val="debcfc">
              <a:alpha val="50000"/>
            </a:srgbClr>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sp>
        <p:nvSpPr>
          <p:cNvPr id="497" name="Shape"/>
          <p:cNvSpPr/>
          <p:nvPr/>
        </p:nvSpPr>
        <p:spPr>
          <a:xfrm>
            <a:off x="8674200" y="1352520"/>
            <a:ext cx="939600" cy="941400"/>
          </a:xfrm>
          <a:custGeom>
            <a:avLst/>
            <a:gdLst/>
            <a:ahLst/>
            <a:rect l="l" t="t" r="r" b="b"/>
            <a:pathLst>
              <a:path w="21600" h="21600">
                <a:moveTo>
                  <a:pt x="124" y="0"/>
                </a:moveTo>
                <a:lnTo>
                  <a:pt x="21600" y="0"/>
                </a:lnTo>
                <a:lnTo>
                  <a:pt x="21600" y="21600"/>
                </a:lnTo>
                <a:lnTo>
                  <a:pt x="0" y="21600"/>
                </a:lnTo>
                <a:lnTo>
                  <a:pt x="124" y="0"/>
                </a:lnTo>
                <a:close/>
              </a:path>
            </a:pathLst>
          </a:custGeom>
          <a:solidFill>
            <a:srgbClr val="debcfc">
              <a:alpha val="50000"/>
            </a:srgbClr>
          </a:solidFill>
          <a:ln w="0">
            <a:noFill/>
          </a:ln>
        </p:spPr>
        <p:style>
          <a:lnRef idx="0"/>
          <a:fillRef idx="0"/>
          <a:effectRef idx="0"/>
          <a:fontRef idx="minor"/>
        </p:style>
        <p:txBody>
          <a:bodyPr lIns="26640" rIns="26640" tIns="26640" bIns="26640" anchor="ctr">
            <a:noAutofit/>
          </a:bodyPr>
          <a:p>
            <a:endParaRPr b="0" lang="en-US" sz="1800" spc="-1" strike="noStrike">
              <a:solidFill>
                <a:srgbClr val="000000"/>
              </a:solidFill>
              <a:latin typeface="Calibri"/>
            </a:endParaRPr>
          </a:p>
        </p:txBody>
      </p:sp>
      <p:pic>
        <p:nvPicPr>
          <p:cNvPr id="498" name="CTIQ_logosstalksonly.psd" descr="CTIQ_logosstalksonly.psd"/>
          <p:cNvPicPr/>
          <p:nvPr/>
        </p:nvPicPr>
        <p:blipFill>
          <a:blip r:embed="rId1"/>
          <a:stretch/>
        </p:blipFill>
        <p:spPr>
          <a:xfrm>
            <a:off x="4160880" y="3568680"/>
            <a:ext cx="1747800" cy="1467000"/>
          </a:xfrm>
          <a:prstGeom prst="rect">
            <a:avLst/>
          </a:prstGeom>
          <a:ln w="0">
            <a:noFill/>
          </a:ln>
        </p:spPr>
      </p:pic>
      <p:sp>
        <p:nvSpPr>
          <p:cNvPr id="499" name="Team Leader…"/>
          <p:cNvSpPr/>
          <p:nvPr/>
        </p:nvSpPr>
        <p:spPr>
          <a:xfrm>
            <a:off x="1260360" y="1266840"/>
            <a:ext cx="3643560" cy="1165320"/>
          </a:xfrm>
          <a:prstGeom prst="rect">
            <a:avLst/>
          </a:prstGeom>
          <a:noFill/>
          <a:ln w="0">
            <a:noFill/>
          </a:ln>
        </p:spPr>
        <p:style>
          <a:lnRef idx="0"/>
          <a:fillRef idx="0"/>
          <a:effectRef idx="0"/>
          <a:fontRef idx="minor"/>
        </p:style>
        <p:txBody>
          <a:bodyPr lIns="26640" rIns="26640" tIns="26640" bIns="26640" anchor="ctr">
            <a:noAutofit/>
          </a:bodyPr>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800" spc="-1" strike="noStrike">
                <a:solidFill>
                  <a:srgbClr val="000000"/>
                </a:solidFill>
                <a:latin typeface="Calibri"/>
                <a:ea typeface="Calibri"/>
              </a:rPr>
              <a:t>Team Leader </a:t>
            </a:r>
            <a:endParaRPr b="0" lang="en-US" sz="18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i="1" lang="en-US" sz="1800" spc="-1" strike="noStrike">
                <a:solidFill>
                  <a:srgbClr val="000000"/>
                </a:solidFill>
                <a:latin typeface="Calibri"/>
                <a:ea typeface="Calibri"/>
              </a:rPr>
              <a:t>(4-12 hrs/month) </a:t>
            </a:r>
            <a:endParaRPr b="0" lang="en-US" sz="1800" spc="-1" strike="noStrike">
              <a:solidFill>
                <a:srgbClr val="000000"/>
              </a:solidFill>
              <a:latin typeface="Calibri"/>
            </a:endParaRPr>
          </a:p>
          <a:p>
            <a:pPr>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800" spc="-1" strike="noStrike">
                <a:solidFill>
                  <a:srgbClr val="000000"/>
                </a:solidFill>
                <a:latin typeface="Calibri"/>
                <a:ea typeface="Calibri"/>
              </a:rPr>
              <a:t>Steers, sets objectives, decides</a:t>
            </a:r>
            <a:endParaRPr b="0" lang="en-US" sz="1800" spc="-1" strike="noStrike">
              <a:solidFill>
                <a:srgbClr val="000000"/>
              </a:solidFill>
              <a:latin typeface="Calibri"/>
            </a:endParaRPr>
          </a:p>
        </p:txBody>
      </p:sp>
      <p:sp>
        <p:nvSpPr>
          <p:cNvPr id="500" name="Team Members…"/>
          <p:cNvSpPr/>
          <p:nvPr/>
        </p:nvSpPr>
        <p:spPr>
          <a:xfrm>
            <a:off x="4513320" y="2359080"/>
            <a:ext cx="3643200" cy="1455840"/>
          </a:xfrm>
          <a:prstGeom prst="rect">
            <a:avLst/>
          </a:prstGeom>
          <a:noFill/>
          <a:ln w="0">
            <a:noFill/>
          </a:ln>
        </p:spPr>
        <p:style>
          <a:lnRef idx="0"/>
          <a:fillRef idx="0"/>
          <a:effectRef idx="0"/>
          <a:fontRef idx="minor"/>
        </p:style>
        <p:txBody>
          <a:bodyPr lIns="26640" rIns="26640" tIns="26640" bIns="26640" anchor="ctr">
            <a:noAutofit/>
          </a:bodyPr>
          <a:p>
            <a:pPr>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800" spc="-1" strike="noStrike">
                <a:solidFill>
                  <a:srgbClr val="000000"/>
                </a:solidFill>
                <a:latin typeface="Calibri"/>
                <a:ea typeface="Calibri"/>
              </a:rPr>
              <a:t>Team Members</a:t>
            </a:r>
            <a:endParaRPr b="0" lang="en-US" sz="1800" spc="-1" strike="noStrike">
              <a:solidFill>
                <a:srgbClr val="000000"/>
              </a:solidFill>
              <a:latin typeface="Calibri"/>
            </a:endParaRPr>
          </a:p>
          <a:p>
            <a:pPr>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i="1" lang="en-US" sz="1800" spc="-1" strike="noStrike">
                <a:solidFill>
                  <a:srgbClr val="000000"/>
                </a:solidFill>
                <a:latin typeface="Calibri"/>
                <a:ea typeface="Calibri"/>
              </a:rPr>
              <a:t>(4-8 hrs/month) </a:t>
            </a:r>
            <a:endParaRPr b="0" lang="en-US" sz="1800" spc="-1" strike="noStrike">
              <a:solidFill>
                <a:srgbClr val="000000"/>
              </a:solidFill>
              <a:latin typeface="Calibri"/>
            </a:endParaRPr>
          </a:p>
          <a:p>
            <a:pPr>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800" spc="-1" strike="noStrike">
                <a:solidFill>
                  <a:srgbClr val="000000"/>
                </a:solidFill>
                <a:latin typeface="Calibri"/>
                <a:ea typeface="Calibri"/>
              </a:rPr>
              <a:t>Identifies, develops, interprets, provides input</a:t>
            </a:r>
            <a:endParaRPr b="0" lang="en-US" sz="1800" spc="-1" strike="noStrike">
              <a:solidFill>
                <a:srgbClr val="000000"/>
              </a:solidFill>
              <a:latin typeface="Calibri"/>
            </a:endParaRPr>
          </a:p>
        </p:txBody>
      </p:sp>
      <p:sp>
        <p:nvSpPr>
          <p:cNvPr id="501" name="CT:IQ Staff…"/>
          <p:cNvSpPr/>
          <p:nvPr/>
        </p:nvSpPr>
        <p:spPr>
          <a:xfrm>
            <a:off x="5959440" y="3735360"/>
            <a:ext cx="3048120" cy="1095480"/>
          </a:xfrm>
          <a:prstGeom prst="rect">
            <a:avLst/>
          </a:prstGeom>
          <a:noFill/>
          <a:ln w="0">
            <a:noFill/>
          </a:ln>
        </p:spPr>
        <p:style>
          <a:lnRef idx="0"/>
          <a:fillRef idx="0"/>
          <a:effectRef idx="0"/>
          <a:fontRef idx="minor"/>
        </p:style>
        <p:txBody>
          <a:bodyPr lIns="26640" rIns="26640" tIns="26640" bIns="26640" anchor="ctr">
            <a:noAutofit/>
          </a:bodyPr>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800" spc="-1" strike="noStrike">
                <a:solidFill>
                  <a:srgbClr val="000000"/>
                </a:solidFill>
                <a:latin typeface="Calibri"/>
                <a:ea typeface="Calibri"/>
              </a:rPr>
              <a:t>CT:IQ Staff</a:t>
            </a:r>
            <a:endParaRPr b="0" lang="en-US" sz="1800" spc="-1" strike="noStrike">
              <a:solidFill>
                <a:srgbClr val="000000"/>
              </a:solidFill>
              <a:latin typeface="Calibri"/>
            </a:endParaRPr>
          </a:p>
          <a:p>
            <a:pPr algn="just">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800" spc="-1" strike="noStrike">
              <a:solidFill>
                <a:srgbClr val="000000"/>
              </a:solidFill>
              <a:latin typeface="Calibri"/>
            </a:endParaRPr>
          </a:p>
          <a:p>
            <a:pPr>
              <a:lnSpc>
                <a:spcPct val="70000"/>
              </a:lnSpc>
              <a:spcBef>
                <a:spcPts val="451"/>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800" spc="-1" strike="noStrike">
                <a:solidFill>
                  <a:srgbClr val="000000"/>
                </a:solidFill>
                <a:latin typeface="Calibri"/>
                <a:ea typeface="Calibri"/>
              </a:rPr>
              <a:t>Tracks, provides support, organises, liaises</a:t>
            </a:r>
            <a:endParaRPr b="0" lang="en-US" sz="1800" spc="-1" strike="noStrike">
              <a:solidFill>
                <a:srgbClr val="000000"/>
              </a:solidFill>
              <a:latin typeface="Calibri"/>
            </a:endParaRPr>
          </a:p>
        </p:txBody>
      </p:sp>
      <p:pic>
        <p:nvPicPr>
          <p:cNvPr id="502" name="CTIQ_projleader.ai" descr="CTIQ_projleader.ai"/>
          <p:cNvPicPr/>
          <p:nvPr/>
        </p:nvPicPr>
        <p:blipFill>
          <a:blip r:embed="rId2"/>
          <a:stretch/>
        </p:blipFill>
        <p:spPr>
          <a:xfrm>
            <a:off x="444600" y="1352520"/>
            <a:ext cx="752400" cy="1106640"/>
          </a:xfrm>
          <a:prstGeom prst="rect">
            <a:avLst/>
          </a:prstGeom>
          <a:ln w="0">
            <a:noFill/>
          </a:ln>
        </p:spPr>
      </p:pic>
      <p:pic>
        <p:nvPicPr>
          <p:cNvPr id="503" name="CTIQ_projteam.ai" descr="CTIQ_projteam.ai"/>
          <p:cNvPicPr/>
          <p:nvPr/>
        </p:nvPicPr>
        <p:blipFill>
          <a:blip r:embed="rId3"/>
          <a:stretch/>
        </p:blipFill>
        <p:spPr>
          <a:xfrm>
            <a:off x="1382760" y="2462040"/>
            <a:ext cx="2925720" cy="11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2T07:07:20Z</dcterms:created>
  <dc:creator>Rebecca Trowman</dc:creator>
  <dc:description/>
  <dc:language>en-US</dc:language>
  <cp:lastModifiedBy>Rebecca Trowman</cp:lastModifiedBy>
  <dcterms:modified xsi:type="dcterms:W3CDTF">2018-05-17T02:52:18Z</dcterms:modified>
  <cp:revision>46</cp:revision>
  <dc:subject/>
  <dc:title>PowerPoint Presentation</dc:title>
</cp:coreProperties>
</file>